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07A7-A93D-4DF1-9FF3-1A277806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B9E-3BAF-4504-BC4C-49342450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6724-0489-4B22-8446-5F5E8101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4596-B611-484B-B167-5DD0B2C4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4E57-E136-427D-BAD3-9F645BC1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F08F-412F-4A72-92FB-31EBDD7B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C34-3560-45E1-A588-9A5CEE5B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E9BB-1357-494A-83FB-0647D656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948-49AA-47F6-A5F7-3F911F06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D03-0F9B-4F37-B9F0-AC7C1800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24F-FFD2-411D-B623-7BB7C9CA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0266-F3FA-4F93-9546-71D2BBDE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96E9-2A04-445F-B48F-4EAF44494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arm – up:  Complete the table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289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89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89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038480" y="3444840"/>
                <a:ext cx="314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3" name=""/>
          <p:cNvGraphicFramePr/>
          <p:nvPr/>
        </p:nvGraphicFramePr>
        <p:xfrm>
          <a:off x="1447920" y="1600200"/>
          <a:ext cx="5562360" cy="3681360"/>
        </p:xfrm>
        <a:graphic>
          <a:graphicData uri="http://schemas.openxmlformats.org/drawingml/2006/table">
            <a:tbl>
              <a:tblPr/>
              <a:tblGrid>
                <a:gridCol w="1854000"/>
                <a:gridCol w="1854360"/>
                <a:gridCol w="18540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62520" y="2286000"/>
                <a:ext cx="3538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2044800" y="3259080"/>
            <a:ext cx="920520" cy="893880"/>
          </a:xfrm>
          <a:custGeom>
            <a:avLst/>
            <a:gdLst/>
            <a:ahLst/>
            <a:rect l="l" t="t" r="r" b="b"/>
            <a:pathLst>
              <a:path w="2556" h="2481">
                <a:moveTo>
                  <a:pt x="6524" y="9178"/>
                </a:moveTo>
                <a:cubicBezTo>
                  <a:pt x="6524" y="9167"/>
                  <a:pt x="6494" y="9057"/>
                  <a:pt x="6474" y="9103"/>
                </a:cubicBezTo>
                <a:cubicBezTo>
                  <a:pt x="6430" y="9202"/>
                  <a:pt x="6509" y="9114"/>
                  <a:pt x="6524" y="9079"/>
                </a:cubicBezTo>
                <a:cubicBezTo>
                  <a:pt x="6483" y="9048"/>
                  <a:pt x="6443" y="9030"/>
                  <a:pt x="6424" y="9103"/>
                </a:cubicBezTo>
                <a:cubicBezTo>
                  <a:pt x="6424" y="9155"/>
                  <a:pt x="6425" y="9173"/>
                  <a:pt x="6449" y="9203"/>
                </a:cubicBezTo>
                <a:cubicBezTo>
                  <a:pt x="6477" y="9182"/>
                  <a:pt x="6542" y="9096"/>
                  <a:pt x="6474" y="9079"/>
                </a:cubicBezTo>
                <a:cubicBezTo>
                  <a:pt x="6387" y="9058"/>
                  <a:pt x="6417" y="9131"/>
                  <a:pt x="6424" y="9178"/>
                </a:cubicBezTo>
                <a:cubicBezTo>
                  <a:pt x="6432" y="9232"/>
                  <a:pt x="6523" y="9196"/>
                  <a:pt x="6449" y="9103"/>
                </a:cubicBezTo>
                <a:cubicBezTo>
                  <a:pt x="6417" y="9063"/>
                  <a:pt x="6424" y="9165"/>
                  <a:pt x="6424" y="9178"/>
                </a:cubicBezTo>
              </a:path>
              <a:path w="2556" h="2481">
                <a:moveTo>
                  <a:pt x="6449" y="9327"/>
                </a:moveTo>
                <a:cubicBezTo>
                  <a:pt x="6414" y="9258"/>
                  <a:pt x="6447" y="9367"/>
                  <a:pt x="6449" y="9376"/>
                </a:cubicBezTo>
                <a:cubicBezTo>
                  <a:pt x="6468" y="9467"/>
                  <a:pt x="6438" y="9418"/>
                  <a:pt x="6499" y="9475"/>
                </a:cubicBezTo>
                <a:cubicBezTo>
                  <a:pt x="6529" y="9503"/>
                  <a:pt x="6607" y="9567"/>
                  <a:pt x="6648" y="9575"/>
                </a:cubicBezTo>
                <a:cubicBezTo>
                  <a:pt x="6745" y="9595"/>
                  <a:pt x="6809" y="9550"/>
                  <a:pt x="6896" y="9525"/>
                </a:cubicBezTo>
                <a:cubicBezTo>
                  <a:pt x="6933" y="9515"/>
                  <a:pt x="7007" y="9477"/>
                  <a:pt x="7045" y="9451"/>
                </a:cubicBezTo>
                <a:cubicBezTo>
                  <a:pt x="7093" y="9419"/>
                  <a:pt x="7047" y="9417"/>
                  <a:pt x="7094" y="9401"/>
                </a:cubicBezTo>
                <a:cubicBezTo>
                  <a:pt x="7104" y="9464"/>
                  <a:pt x="7106" y="9464"/>
                  <a:pt x="7169" y="9500"/>
                </a:cubicBezTo>
                <a:cubicBezTo>
                  <a:pt x="7251" y="9547"/>
                  <a:pt x="7298" y="9550"/>
                  <a:pt x="7392" y="9550"/>
                </a:cubicBezTo>
                <a:cubicBezTo>
                  <a:pt x="7457" y="9550"/>
                  <a:pt x="7490" y="9555"/>
                  <a:pt x="7541" y="9525"/>
                </a:cubicBezTo>
                <a:cubicBezTo>
                  <a:pt x="7589" y="9497"/>
                  <a:pt x="7618" y="9478"/>
                  <a:pt x="7640" y="9451"/>
                </a:cubicBezTo>
                <a:cubicBezTo>
                  <a:pt x="7678" y="9405"/>
                  <a:pt x="7679" y="9388"/>
                  <a:pt x="7714" y="9376"/>
                </a:cubicBezTo>
              </a:path>
              <a:path w="2556" h="2481">
                <a:moveTo>
                  <a:pt x="6052" y="10319"/>
                </a:moveTo>
                <a:cubicBezTo>
                  <a:pt x="5973" y="10319"/>
                  <a:pt x="5911" y="10357"/>
                  <a:pt x="5854" y="10418"/>
                </a:cubicBezTo>
                <a:cubicBezTo>
                  <a:pt x="5741" y="10539"/>
                  <a:pt x="5647" y="10778"/>
                  <a:pt x="5705" y="10939"/>
                </a:cubicBezTo>
                <a:cubicBezTo>
                  <a:pt x="5762" y="11098"/>
                  <a:pt x="6031" y="10963"/>
                  <a:pt x="6102" y="10914"/>
                </a:cubicBezTo>
                <a:cubicBezTo>
                  <a:pt x="6319" y="10763"/>
                  <a:pt x="6301" y="10597"/>
                  <a:pt x="6152" y="10418"/>
                </a:cubicBezTo>
                <a:cubicBezTo>
                  <a:pt x="6078" y="10329"/>
                  <a:pt x="6068" y="10321"/>
                  <a:pt x="5978" y="10344"/>
                </a:cubicBezTo>
              </a:path>
              <a:path w="2556" h="2481">
                <a:moveTo>
                  <a:pt x="6573" y="10864"/>
                </a:moveTo>
                <a:cubicBezTo>
                  <a:pt x="6594" y="10914"/>
                  <a:pt x="6598" y="10916"/>
                  <a:pt x="6598" y="10964"/>
                </a:cubicBezTo>
                <a:cubicBezTo>
                  <a:pt x="6598" y="10939"/>
                  <a:pt x="6598" y="10931"/>
                  <a:pt x="6598" y="10914"/>
                </a:cubicBezTo>
              </a:path>
              <a:path w="2556" h="2481">
                <a:moveTo>
                  <a:pt x="7243" y="10418"/>
                </a:moveTo>
                <a:cubicBezTo>
                  <a:pt x="7257" y="10336"/>
                  <a:pt x="7293" y="10281"/>
                  <a:pt x="7193" y="10244"/>
                </a:cubicBezTo>
                <a:cubicBezTo>
                  <a:pt x="7033" y="10186"/>
                  <a:pt x="6972" y="10220"/>
                  <a:pt x="6896" y="10368"/>
                </a:cubicBezTo>
                <a:cubicBezTo>
                  <a:pt x="6823" y="10510"/>
                  <a:pt x="6853" y="10542"/>
                  <a:pt x="6921" y="10666"/>
                </a:cubicBezTo>
                <a:cubicBezTo>
                  <a:pt x="7089" y="10638"/>
                  <a:pt x="7148" y="10551"/>
                  <a:pt x="7218" y="10393"/>
                </a:cubicBezTo>
                <a:cubicBezTo>
                  <a:pt x="7237" y="10336"/>
                  <a:pt x="7246" y="10329"/>
                  <a:pt x="7243" y="10294"/>
                </a:cubicBezTo>
                <a:cubicBezTo>
                  <a:pt x="7309" y="10468"/>
                  <a:pt x="7227" y="10681"/>
                  <a:pt x="7193" y="10864"/>
                </a:cubicBezTo>
                <a:cubicBezTo>
                  <a:pt x="7176" y="10972"/>
                  <a:pt x="7168" y="10979"/>
                  <a:pt x="7169" y="11038"/>
                </a:cubicBezTo>
              </a:path>
              <a:path w="2556" h="2481">
                <a:moveTo>
                  <a:pt x="6648" y="11261"/>
                </a:moveTo>
                <a:cubicBezTo>
                  <a:pt x="6661" y="11341"/>
                  <a:pt x="6674" y="11428"/>
                  <a:pt x="6747" y="11485"/>
                </a:cubicBezTo>
                <a:cubicBezTo>
                  <a:pt x="6847" y="11564"/>
                  <a:pt x="7006" y="11546"/>
                  <a:pt x="7119" y="11509"/>
                </a:cubicBezTo>
                <a:cubicBezTo>
                  <a:pt x="7210" y="11480"/>
                  <a:pt x="7343" y="11422"/>
                  <a:pt x="7417" y="11361"/>
                </a:cubicBezTo>
                <a:cubicBezTo>
                  <a:pt x="7429" y="11351"/>
                  <a:pt x="7430" y="11324"/>
                  <a:pt x="7441" y="11311"/>
                </a:cubicBezTo>
                <a:cubicBezTo>
                  <a:pt x="7480" y="11381"/>
                  <a:pt x="7516" y="11432"/>
                  <a:pt x="7590" y="11485"/>
                </a:cubicBezTo>
                <a:cubicBezTo>
                  <a:pt x="7701" y="11565"/>
                  <a:pt x="7835" y="11541"/>
                  <a:pt x="7962" y="11509"/>
                </a:cubicBezTo>
                <a:cubicBezTo>
                  <a:pt x="8058" y="11485"/>
                  <a:pt x="8139" y="11426"/>
                  <a:pt x="8210" y="11361"/>
                </a:cubicBezTo>
                <a:cubicBezTo>
                  <a:pt x="8210" y="11336"/>
                  <a:pt x="8210" y="11328"/>
                  <a:pt x="8235" y="11336"/>
                </a:cubicBezTo>
              </a:path>
              <a:path w="2556" h="2481">
                <a:moveTo>
                  <a:pt x="7838" y="10294"/>
                </a:moveTo>
                <a:cubicBezTo>
                  <a:pt x="7780" y="10309"/>
                  <a:pt x="7699" y="10393"/>
                  <a:pt x="7665" y="10443"/>
                </a:cubicBezTo>
                <a:cubicBezTo>
                  <a:pt x="7566" y="10589"/>
                  <a:pt x="7506" y="10839"/>
                  <a:pt x="7541" y="11013"/>
                </a:cubicBezTo>
                <a:cubicBezTo>
                  <a:pt x="7557" y="11046"/>
                  <a:pt x="7574" y="11079"/>
                  <a:pt x="7590" y="11112"/>
                </a:cubicBezTo>
                <a:cubicBezTo>
                  <a:pt x="7744" y="11127"/>
                  <a:pt x="7882" y="11032"/>
                  <a:pt x="7938" y="10864"/>
                </a:cubicBezTo>
                <a:cubicBezTo>
                  <a:pt x="7984" y="10725"/>
                  <a:pt x="7985" y="10479"/>
                  <a:pt x="7863" y="10368"/>
                </a:cubicBezTo>
                <a:cubicBezTo>
                  <a:pt x="7810" y="10320"/>
                  <a:pt x="7777" y="10341"/>
                  <a:pt x="7739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7720" y="4170240"/>
            <a:ext cx="447480" cy="322560"/>
          </a:xfrm>
          <a:custGeom>
            <a:avLst/>
            <a:gdLst/>
            <a:ahLst/>
            <a:rect l="l" t="t" r="r" b="b"/>
            <a:pathLst>
              <a:path w="1241" h="894">
                <a:moveTo>
                  <a:pt x="10021" y="11609"/>
                </a:moveTo>
                <a:cubicBezTo>
                  <a:pt x="9953" y="11631"/>
                  <a:pt x="9847" y="11640"/>
                  <a:pt x="9798" y="11683"/>
                </a:cubicBezTo>
                <a:cubicBezTo>
                  <a:pt x="9781" y="11700"/>
                  <a:pt x="9765" y="11716"/>
                  <a:pt x="9748" y="11733"/>
                </a:cubicBezTo>
                <a:cubicBezTo>
                  <a:pt x="9797" y="11843"/>
                  <a:pt x="9973" y="11912"/>
                  <a:pt x="9996" y="12055"/>
                </a:cubicBezTo>
                <a:cubicBezTo>
                  <a:pt x="9972" y="12126"/>
                  <a:pt x="9965" y="12149"/>
                  <a:pt x="9922" y="12179"/>
                </a:cubicBezTo>
                <a:cubicBezTo>
                  <a:pt x="9796" y="12096"/>
                  <a:pt x="9935" y="11979"/>
                  <a:pt x="9996" y="11857"/>
                </a:cubicBezTo>
                <a:cubicBezTo>
                  <a:pt x="10004" y="11841"/>
                  <a:pt x="9996" y="11768"/>
                  <a:pt x="9996" y="11757"/>
                </a:cubicBezTo>
              </a:path>
              <a:path w="1241" h="894">
                <a:moveTo>
                  <a:pt x="10170" y="11683"/>
                </a:moveTo>
                <a:cubicBezTo>
                  <a:pt x="10254" y="11657"/>
                  <a:pt x="10374" y="11643"/>
                  <a:pt x="10418" y="11584"/>
                </a:cubicBezTo>
                <a:cubicBezTo>
                  <a:pt x="10418" y="11707"/>
                  <a:pt x="10395" y="11836"/>
                  <a:pt x="10368" y="11956"/>
                </a:cubicBezTo>
                <a:cubicBezTo>
                  <a:pt x="10360" y="11981"/>
                  <a:pt x="10352" y="12005"/>
                  <a:pt x="10344" y="12030"/>
                </a:cubicBezTo>
              </a:path>
              <a:path w="1241" h="894">
                <a:moveTo>
                  <a:pt x="9327" y="12477"/>
                </a:moveTo>
                <a:cubicBezTo>
                  <a:pt x="9654" y="12411"/>
                  <a:pt x="9987" y="12335"/>
                  <a:pt x="10319" y="12303"/>
                </a:cubicBezTo>
                <a:cubicBezTo>
                  <a:pt x="10360" y="12299"/>
                  <a:pt x="10551" y="12292"/>
                  <a:pt x="10567" y="12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17920" y="4510080"/>
            <a:ext cx="1170000" cy="749160"/>
          </a:xfrm>
          <a:custGeom>
            <a:avLst/>
            <a:gdLst/>
            <a:ahLst/>
            <a:rect l="l" t="t" r="r" b="b"/>
            <a:pathLst>
              <a:path w="3250" h="2085">
                <a:moveTo>
                  <a:pt x="9897" y="12626"/>
                </a:moveTo>
                <a:cubicBezTo>
                  <a:pt x="9833" y="12725"/>
                  <a:pt x="9794" y="12782"/>
                  <a:pt x="9773" y="12898"/>
                </a:cubicBezTo>
                <a:cubicBezTo>
                  <a:pt x="9897" y="12910"/>
                  <a:pt x="10079" y="12829"/>
                  <a:pt x="10046" y="12650"/>
                </a:cubicBezTo>
                <a:cubicBezTo>
                  <a:pt x="9983" y="12620"/>
                  <a:pt x="9952" y="12612"/>
                  <a:pt x="9897" y="12626"/>
                </a:cubicBezTo>
              </a:path>
              <a:path w="3250" h="2085">
                <a:moveTo>
                  <a:pt x="10393" y="12526"/>
                </a:moveTo>
                <a:cubicBezTo>
                  <a:pt x="10354" y="12625"/>
                  <a:pt x="10268" y="12732"/>
                  <a:pt x="10244" y="12849"/>
                </a:cubicBezTo>
                <a:cubicBezTo>
                  <a:pt x="10244" y="12882"/>
                  <a:pt x="10244" y="12915"/>
                  <a:pt x="10244" y="12948"/>
                </a:cubicBezTo>
                <a:cubicBezTo>
                  <a:pt x="10384" y="12920"/>
                  <a:pt x="10534" y="12802"/>
                  <a:pt x="10492" y="12626"/>
                </a:cubicBezTo>
                <a:cubicBezTo>
                  <a:pt x="10430" y="12563"/>
                  <a:pt x="10420" y="12545"/>
                  <a:pt x="10368" y="12526"/>
                </a:cubicBezTo>
              </a:path>
              <a:path w="3250" h="2085">
                <a:moveTo>
                  <a:pt x="10740" y="13171"/>
                </a:moveTo>
                <a:cubicBezTo>
                  <a:pt x="10689" y="13093"/>
                  <a:pt x="10527" y="13215"/>
                  <a:pt x="10468" y="13271"/>
                </a:cubicBezTo>
                <a:cubicBezTo>
                  <a:pt x="10460" y="13287"/>
                  <a:pt x="10451" y="13304"/>
                  <a:pt x="10443" y="13320"/>
                </a:cubicBezTo>
                <a:cubicBezTo>
                  <a:pt x="10510" y="13393"/>
                  <a:pt x="10789" y="13531"/>
                  <a:pt x="10740" y="13643"/>
                </a:cubicBezTo>
                <a:cubicBezTo>
                  <a:pt x="10715" y="13659"/>
                  <a:pt x="10691" y="13676"/>
                  <a:pt x="10666" y="13692"/>
                </a:cubicBezTo>
                <a:cubicBezTo>
                  <a:pt x="10558" y="13649"/>
                  <a:pt x="10599" y="13555"/>
                  <a:pt x="10666" y="13469"/>
                </a:cubicBezTo>
                <a:cubicBezTo>
                  <a:pt x="10714" y="13407"/>
                  <a:pt x="10924" y="13224"/>
                  <a:pt x="10790" y="13122"/>
                </a:cubicBezTo>
                <a:cubicBezTo>
                  <a:pt x="10746" y="13088"/>
                  <a:pt x="10703" y="13111"/>
                  <a:pt x="10716" y="13146"/>
                </a:cubicBezTo>
              </a:path>
              <a:path w="3250" h="2085">
                <a:moveTo>
                  <a:pt x="10046" y="13965"/>
                </a:moveTo>
                <a:cubicBezTo>
                  <a:pt x="10361" y="13889"/>
                  <a:pt x="10673" y="13796"/>
                  <a:pt x="10988" y="13717"/>
                </a:cubicBezTo>
                <a:cubicBezTo>
                  <a:pt x="11073" y="13696"/>
                  <a:pt x="11123" y="13651"/>
                  <a:pt x="11137" y="13692"/>
                </a:cubicBezTo>
              </a:path>
              <a:path w="3250" h="2085">
                <a:moveTo>
                  <a:pt x="10046" y="14139"/>
                </a:moveTo>
                <a:cubicBezTo>
                  <a:pt x="10027" y="14288"/>
                  <a:pt x="9993" y="14436"/>
                  <a:pt x="9971" y="14585"/>
                </a:cubicBezTo>
                <a:cubicBezTo>
                  <a:pt x="9971" y="14610"/>
                  <a:pt x="9971" y="14618"/>
                  <a:pt x="9971" y="14585"/>
                </a:cubicBezTo>
              </a:path>
              <a:path w="3250" h="2085">
                <a:moveTo>
                  <a:pt x="10418" y="14039"/>
                </a:moveTo>
                <a:cubicBezTo>
                  <a:pt x="10389" y="14090"/>
                  <a:pt x="10233" y="14330"/>
                  <a:pt x="10294" y="14387"/>
                </a:cubicBezTo>
                <a:cubicBezTo>
                  <a:pt x="10319" y="14395"/>
                  <a:pt x="10343" y="14404"/>
                  <a:pt x="10368" y="14412"/>
                </a:cubicBezTo>
                <a:cubicBezTo>
                  <a:pt x="10471" y="14309"/>
                  <a:pt x="10581" y="14160"/>
                  <a:pt x="10418" y="14039"/>
                </a:cubicBezTo>
                <a:cubicBezTo>
                  <a:pt x="10366" y="14039"/>
                  <a:pt x="10348" y="14040"/>
                  <a:pt x="10319" y="14064"/>
                </a:cubicBezTo>
              </a:path>
              <a:path w="3250" h="2085">
                <a:moveTo>
                  <a:pt x="10790" y="13940"/>
                </a:moveTo>
                <a:cubicBezTo>
                  <a:pt x="10679" y="14020"/>
                  <a:pt x="10673" y="14127"/>
                  <a:pt x="10666" y="14263"/>
                </a:cubicBezTo>
                <a:cubicBezTo>
                  <a:pt x="10666" y="14348"/>
                  <a:pt x="10653" y="14374"/>
                  <a:pt x="10716" y="14387"/>
                </a:cubicBezTo>
                <a:cubicBezTo>
                  <a:pt x="10841" y="14364"/>
                  <a:pt x="10931" y="14242"/>
                  <a:pt x="10864" y="14089"/>
                </a:cubicBezTo>
                <a:cubicBezTo>
                  <a:pt x="10848" y="14051"/>
                  <a:pt x="10729" y="14009"/>
                  <a:pt x="10691" y="13990"/>
                </a:cubicBezTo>
              </a:path>
              <a:path w="3250" h="2085">
                <a:moveTo>
                  <a:pt x="11112" y="13395"/>
                </a:moveTo>
                <a:cubicBezTo>
                  <a:pt x="11088" y="13395"/>
                  <a:pt x="11080" y="13395"/>
                  <a:pt x="11088" y="13419"/>
                </a:cubicBezTo>
                <a:cubicBezTo>
                  <a:pt x="11130" y="13388"/>
                  <a:pt x="11157" y="13378"/>
                  <a:pt x="11212" y="13345"/>
                </a:cubicBezTo>
              </a:path>
              <a:path w="3250" h="2085">
                <a:moveTo>
                  <a:pt x="11311" y="13122"/>
                </a:moveTo>
                <a:cubicBezTo>
                  <a:pt x="11321" y="13179"/>
                  <a:pt x="11329" y="13228"/>
                  <a:pt x="11361" y="13271"/>
                </a:cubicBezTo>
                <a:cubicBezTo>
                  <a:pt x="11446" y="13242"/>
                  <a:pt x="11475" y="13224"/>
                  <a:pt x="11485" y="13146"/>
                </a:cubicBezTo>
              </a:path>
              <a:path w="3250" h="2085">
                <a:moveTo>
                  <a:pt x="11088" y="14139"/>
                </a:moveTo>
                <a:cubicBezTo>
                  <a:pt x="11173" y="14160"/>
                  <a:pt x="11208" y="14188"/>
                  <a:pt x="11311" y="14188"/>
                </a:cubicBezTo>
              </a:path>
              <a:path w="3250" h="2085">
                <a:moveTo>
                  <a:pt x="11609" y="14015"/>
                </a:moveTo>
                <a:cubicBezTo>
                  <a:pt x="11596" y="14151"/>
                  <a:pt x="11588" y="14253"/>
                  <a:pt x="11609" y="14387"/>
                </a:cubicBezTo>
                <a:cubicBezTo>
                  <a:pt x="11609" y="14395"/>
                  <a:pt x="11609" y="14404"/>
                  <a:pt x="11609" y="14412"/>
                </a:cubicBezTo>
              </a:path>
              <a:path w="3250" h="2085">
                <a:moveTo>
                  <a:pt x="12551" y="13246"/>
                </a:moveTo>
                <a:cubicBezTo>
                  <a:pt x="12624" y="13209"/>
                  <a:pt x="12623" y="13173"/>
                  <a:pt x="12725" y="13196"/>
                </a:cubicBezTo>
                <a:cubicBezTo>
                  <a:pt x="12782" y="13366"/>
                  <a:pt x="12673" y="13412"/>
                  <a:pt x="12576" y="13543"/>
                </a:cubicBezTo>
                <a:cubicBezTo>
                  <a:pt x="12568" y="13560"/>
                  <a:pt x="12559" y="13576"/>
                  <a:pt x="12551" y="13593"/>
                </a:cubicBezTo>
                <a:cubicBezTo>
                  <a:pt x="12471" y="13593"/>
                  <a:pt x="12653" y="13552"/>
                  <a:pt x="12725" y="13519"/>
                </a:cubicBezTo>
                <a:cubicBezTo>
                  <a:pt x="12810" y="13480"/>
                  <a:pt x="12878" y="13444"/>
                  <a:pt x="12973" y="13444"/>
                </a:cubicBezTo>
              </a:path>
              <a:path w="3250" h="2085">
                <a:moveTo>
                  <a:pt x="12378" y="13742"/>
                </a:moveTo>
                <a:cubicBezTo>
                  <a:pt x="12537" y="13719"/>
                  <a:pt x="12693" y="13682"/>
                  <a:pt x="12849" y="13643"/>
                </a:cubicBezTo>
                <a:cubicBezTo>
                  <a:pt x="12920" y="13625"/>
                  <a:pt x="12955" y="13618"/>
                  <a:pt x="13022" y="13618"/>
                </a:cubicBezTo>
              </a:path>
              <a:path w="3250" h="2085">
                <a:moveTo>
                  <a:pt x="12378" y="14064"/>
                </a:moveTo>
                <a:cubicBezTo>
                  <a:pt x="12378" y="14029"/>
                  <a:pt x="12382" y="14012"/>
                  <a:pt x="12402" y="13990"/>
                </a:cubicBezTo>
                <a:cubicBezTo>
                  <a:pt x="12590" y="13989"/>
                  <a:pt x="12610" y="14125"/>
                  <a:pt x="12502" y="14288"/>
                </a:cubicBezTo>
                <a:cubicBezTo>
                  <a:pt x="12438" y="14385"/>
                  <a:pt x="12316" y="14432"/>
                  <a:pt x="12254" y="14337"/>
                </a:cubicBezTo>
                <a:cubicBezTo>
                  <a:pt x="12338" y="14260"/>
                  <a:pt x="12484" y="14157"/>
                  <a:pt x="12576" y="14263"/>
                </a:cubicBezTo>
                <a:cubicBezTo>
                  <a:pt x="12596" y="14303"/>
                  <a:pt x="12605" y="14309"/>
                  <a:pt x="12601" y="14337"/>
                </a:cubicBezTo>
              </a:path>
              <a:path w="3250" h="2085">
                <a:moveTo>
                  <a:pt x="12948" y="13866"/>
                </a:moveTo>
                <a:cubicBezTo>
                  <a:pt x="12900" y="13887"/>
                  <a:pt x="12754" y="13910"/>
                  <a:pt x="12725" y="13940"/>
                </a:cubicBezTo>
                <a:cubicBezTo>
                  <a:pt x="12681" y="13984"/>
                  <a:pt x="12700" y="14059"/>
                  <a:pt x="12700" y="14114"/>
                </a:cubicBezTo>
                <a:cubicBezTo>
                  <a:pt x="12797" y="14081"/>
                  <a:pt x="12838" y="14018"/>
                  <a:pt x="12948" y="14064"/>
                </a:cubicBezTo>
                <a:cubicBezTo>
                  <a:pt x="13044" y="14104"/>
                  <a:pt x="12994" y="14275"/>
                  <a:pt x="12923" y="14312"/>
                </a:cubicBezTo>
                <a:cubicBezTo>
                  <a:pt x="12865" y="14342"/>
                  <a:pt x="12810" y="14337"/>
                  <a:pt x="12750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84760" y="2438280"/>
            <a:ext cx="2822400" cy="2759040"/>
          </a:xfrm>
          <a:custGeom>
            <a:avLst/>
            <a:gdLst/>
            <a:ahLst/>
            <a:rect l="l" t="t" r="r" b="b"/>
            <a:pathLst>
              <a:path w="7839" h="7665">
                <a:moveTo>
                  <a:pt x="11931" y="7268"/>
                </a:moveTo>
                <a:cubicBezTo>
                  <a:pt x="11931" y="7213"/>
                  <a:pt x="11985" y="7354"/>
                  <a:pt x="12005" y="7392"/>
                </a:cubicBezTo>
                <a:cubicBezTo>
                  <a:pt x="12028" y="7436"/>
                  <a:pt x="12054" y="7474"/>
                  <a:pt x="12080" y="7491"/>
                </a:cubicBezTo>
              </a:path>
              <a:path w="7839" h="7665">
                <a:moveTo>
                  <a:pt x="12154" y="7293"/>
                </a:moveTo>
                <a:cubicBezTo>
                  <a:pt x="12067" y="7332"/>
                  <a:pt x="12002" y="7376"/>
                  <a:pt x="11931" y="7441"/>
                </a:cubicBezTo>
                <a:cubicBezTo>
                  <a:pt x="11894" y="7475"/>
                  <a:pt x="11894" y="7453"/>
                  <a:pt x="11881" y="7491"/>
                </a:cubicBezTo>
              </a:path>
              <a:path w="7839" h="7665">
                <a:moveTo>
                  <a:pt x="12576" y="7342"/>
                </a:moveTo>
                <a:cubicBezTo>
                  <a:pt x="12525" y="7329"/>
                  <a:pt x="12489" y="7317"/>
                  <a:pt x="12427" y="7317"/>
                </a:cubicBezTo>
                <a:cubicBezTo>
                  <a:pt x="12357" y="7317"/>
                  <a:pt x="12378" y="7391"/>
                  <a:pt x="12378" y="7441"/>
                </a:cubicBezTo>
                <a:cubicBezTo>
                  <a:pt x="12378" y="7449"/>
                  <a:pt x="12378" y="7458"/>
                  <a:pt x="12378" y="7466"/>
                </a:cubicBezTo>
                <a:cubicBezTo>
                  <a:pt x="12462" y="7466"/>
                  <a:pt x="12515" y="7455"/>
                  <a:pt x="12551" y="7541"/>
                </a:cubicBezTo>
                <a:cubicBezTo>
                  <a:pt x="12588" y="7629"/>
                  <a:pt x="12411" y="7696"/>
                  <a:pt x="12353" y="7665"/>
                </a:cubicBezTo>
                <a:cubicBezTo>
                  <a:pt x="12345" y="7648"/>
                  <a:pt x="12336" y="7632"/>
                  <a:pt x="12328" y="7615"/>
                </a:cubicBezTo>
              </a:path>
              <a:path w="7839" h="7665">
                <a:moveTo>
                  <a:pt x="12378" y="7268"/>
                </a:moveTo>
                <a:cubicBezTo>
                  <a:pt x="12394" y="7219"/>
                  <a:pt x="12497" y="7243"/>
                  <a:pt x="12551" y="7243"/>
                </a:cubicBezTo>
                <a:cubicBezTo>
                  <a:pt x="12609" y="7243"/>
                  <a:pt x="12617" y="7243"/>
                  <a:pt x="12650" y="7243"/>
                </a:cubicBezTo>
              </a:path>
              <a:path w="7839" h="7665">
                <a:moveTo>
                  <a:pt x="12750" y="7392"/>
                </a:moveTo>
                <a:cubicBezTo>
                  <a:pt x="12750" y="7336"/>
                  <a:pt x="12839" y="7355"/>
                  <a:pt x="12874" y="7367"/>
                </a:cubicBezTo>
              </a:path>
              <a:path w="7839" h="7665">
                <a:moveTo>
                  <a:pt x="12700" y="7516"/>
                </a:moveTo>
                <a:cubicBezTo>
                  <a:pt x="12761" y="7499"/>
                  <a:pt x="12788" y="7491"/>
                  <a:pt x="12849" y="7491"/>
                </a:cubicBezTo>
              </a:path>
              <a:path w="7839" h="7665">
                <a:moveTo>
                  <a:pt x="13072" y="7615"/>
                </a:moveTo>
                <a:cubicBezTo>
                  <a:pt x="13072" y="7746"/>
                  <a:pt x="13072" y="7861"/>
                  <a:pt x="13047" y="7987"/>
                </a:cubicBezTo>
              </a:path>
              <a:path w="7839" h="7665">
                <a:moveTo>
                  <a:pt x="13320" y="7615"/>
                </a:moveTo>
                <a:cubicBezTo>
                  <a:pt x="13300" y="7707"/>
                  <a:pt x="13220" y="7808"/>
                  <a:pt x="13246" y="7913"/>
                </a:cubicBezTo>
                <a:cubicBezTo>
                  <a:pt x="13254" y="7921"/>
                  <a:pt x="13263" y="7930"/>
                  <a:pt x="13271" y="7938"/>
                </a:cubicBezTo>
                <a:cubicBezTo>
                  <a:pt x="13391" y="7911"/>
                  <a:pt x="13461" y="7853"/>
                  <a:pt x="13444" y="7714"/>
                </a:cubicBezTo>
                <a:cubicBezTo>
                  <a:pt x="13434" y="7634"/>
                  <a:pt x="13353" y="7640"/>
                  <a:pt x="13295" y="7640"/>
                </a:cubicBezTo>
              </a:path>
              <a:path w="7839" h="7665">
                <a:moveTo>
                  <a:pt x="13643" y="7590"/>
                </a:moveTo>
                <a:cubicBezTo>
                  <a:pt x="13633" y="7716"/>
                  <a:pt x="13599" y="7816"/>
                  <a:pt x="13618" y="7938"/>
                </a:cubicBezTo>
                <a:cubicBezTo>
                  <a:pt x="13732" y="7919"/>
                  <a:pt x="13826" y="7874"/>
                  <a:pt x="13841" y="7739"/>
                </a:cubicBezTo>
                <a:cubicBezTo>
                  <a:pt x="13855" y="7609"/>
                  <a:pt x="13732" y="7626"/>
                  <a:pt x="13643" y="7590"/>
                </a:cubicBezTo>
              </a:path>
              <a:path w="7839" h="7665">
                <a:moveTo>
                  <a:pt x="13221" y="7392"/>
                </a:moveTo>
                <a:cubicBezTo>
                  <a:pt x="13332" y="7336"/>
                  <a:pt x="13488" y="7389"/>
                  <a:pt x="13618" y="7392"/>
                </a:cubicBezTo>
                <a:cubicBezTo>
                  <a:pt x="13765" y="7395"/>
                  <a:pt x="13707" y="7395"/>
                  <a:pt x="13791" y="7417"/>
                </a:cubicBezTo>
              </a:path>
              <a:path w="7839" h="7665">
                <a:moveTo>
                  <a:pt x="12601" y="6772"/>
                </a:moveTo>
                <a:cubicBezTo>
                  <a:pt x="12527" y="6772"/>
                  <a:pt x="12452" y="6772"/>
                  <a:pt x="12378" y="6772"/>
                </a:cubicBezTo>
                <a:cubicBezTo>
                  <a:pt x="12370" y="6829"/>
                  <a:pt x="12353" y="6859"/>
                  <a:pt x="12353" y="6921"/>
                </a:cubicBezTo>
                <a:cubicBezTo>
                  <a:pt x="12425" y="6921"/>
                  <a:pt x="12512" y="6906"/>
                  <a:pt x="12576" y="6945"/>
                </a:cubicBezTo>
                <a:cubicBezTo>
                  <a:pt x="12622" y="6973"/>
                  <a:pt x="12641" y="7021"/>
                  <a:pt x="12650" y="7069"/>
                </a:cubicBezTo>
                <a:cubicBezTo>
                  <a:pt x="12595" y="7090"/>
                  <a:pt x="12561" y="7094"/>
                  <a:pt x="12502" y="7094"/>
                </a:cubicBezTo>
                <a:cubicBezTo>
                  <a:pt x="12472" y="7094"/>
                  <a:pt x="12393" y="7075"/>
                  <a:pt x="12378" y="7045"/>
                </a:cubicBezTo>
                <a:cubicBezTo>
                  <a:pt x="12378" y="7037"/>
                  <a:pt x="12378" y="7028"/>
                  <a:pt x="12378" y="7020"/>
                </a:cubicBezTo>
              </a:path>
              <a:path w="7839" h="7665">
                <a:moveTo>
                  <a:pt x="13196" y="6871"/>
                </a:moveTo>
                <a:cubicBezTo>
                  <a:pt x="13242" y="6862"/>
                  <a:pt x="13277" y="6843"/>
                  <a:pt x="13320" y="6821"/>
                </a:cubicBezTo>
                <a:cubicBezTo>
                  <a:pt x="13315" y="6903"/>
                  <a:pt x="13336" y="7015"/>
                  <a:pt x="13246" y="7045"/>
                </a:cubicBezTo>
                <a:cubicBezTo>
                  <a:pt x="13238" y="7045"/>
                  <a:pt x="13229" y="7045"/>
                  <a:pt x="13221" y="7045"/>
                </a:cubicBezTo>
                <a:cubicBezTo>
                  <a:pt x="13301" y="7045"/>
                  <a:pt x="13356" y="7040"/>
                  <a:pt x="13395" y="7119"/>
                </a:cubicBezTo>
                <a:cubicBezTo>
                  <a:pt x="13403" y="7144"/>
                  <a:pt x="13411" y="7168"/>
                  <a:pt x="13419" y="7193"/>
                </a:cubicBezTo>
                <a:cubicBezTo>
                  <a:pt x="13317" y="7239"/>
                  <a:pt x="13249" y="7257"/>
                  <a:pt x="13146" y="7243"/>
                </a:cubicBezTo>
                <a:cubicBezTo>
                  <a:pt x="13122" y="7243"/>
                  <a:pt x="13114" y="7243"/>
                  <a:pt x="13122" y="7218"/>
                </a:cubicBezTo>
              </a:path>
              <a:path w="7839" h="7665">
                <a:moveTo>
                  <a:pt x="13643" y="6871"/>
                </a:moveTo>
                <a:cubicBezTo>
                  <a:pt x="13584" y="6886"/>
                  <a:pt x="13541" y="6981"/>
                  <a:pt x="13543" y="7045"/>
                </a:cubicBezTo>
                <a:cubicBezTo>
                  <a:pt x="13545" y="7087"/>
                  <a:pt x="13572" y="7208"/>
                  <a:pt x="13593" y="7218"/>
                </a:cubicBezTo>
                <a:cubicBezTo>
                  <a:pt x="13683" y="7263"/>
                  <a:pt x="13749" y="7206"/>
                  <a:pt x="13791" y="7144"/>
                </a:cubicBezTo>
                <a:cubicBezTo>
                  <a:pt x="13818" y="7105"/>
                  <a:pt x="13891" y="6986"/>
                  <a:pt x="13816" y="6945"/>
                </a:cubicBezTo>
                <a:cubicBezTo>
                  <a:pt x="13759" y="6914"/>
                  <a:pt x="13683" y="6896"/>
                  <a:pt x="13618" y="6896"/>
                </a:cubicBezTo>
              </a:path>
              <a:path w="7839" h="7665">
                <a:moveTo>
                  <a:pt x="16073" y="7193"/>
                </a:moveTo>
                <a:cubicBezTo>
                  <a:pt x="16236" y="7076"/>
                  <a:pt x="16289" y="7082"/>
                  <a:pt x="16446" y="7193"/>
                </a:cubicBezTo>
                <a:cubicBezTo>
                  <a:pt x="16358" y="7321"/>
                  <a:pt x="16313" y="7393"/>
                  <a:pt x="16148" y="7417"/>
                </a:cubicBezTo>
                <a:cubicBezTo>
                  <a:pt x="16271" y="7399"/>
                  <a:pt x="16421" y="7406"/>
                  <a:pt x="16421" y="7590"/>
                </a:cubicBezTo>
                <a:cubicBezTo>
                  <a:pt x="16421" y="7768"/>
                  <a:pt x="16134" y="7847"/>
                  <a:pt x="15999" y="7813"/>
                </a:cubicBezTo>
                <a:cubicBezTo>
                  <a:pt x="15934" y="7770"/>
                  <a:pt x="15914" y="7764"/>
                  <a:pt x="15900" y="7714"/>
                </a:cubicBezTo>
              </a:path>
              <a:path w="7839" h="7665">
                <a:moveTo>
                  <a:pt x="16966" y="7144"/>
                </a:moveTo>
                <a:cubicBezTo>
                  <a:pt x="16813" y="7158"/>
                  <a:pt x="16740" y="7262"/>
                  <a:pt x="16694" y="7417"/>
                </a:cubicBezTo>
                <a:cubicBezTo>
                  <a:pt x="16640" y="7599"/>
                  <a:pt x="16665" y="7666"/>
                  <a:pt x="16743" y="7813"/>
                </a:cubicBezTo>
                <a:cubicBezTo>
                  <a:pt x="16956" y="7771"/>
                  <a:pt x="17068" y="7702"/>
                  <a:pt x="17140" y="7491"/>
                </a:cubicBezTo>
                <a:cubicBezTo>
                  <a:pt x="17205" y="7302"/>
                  <a:pt x="17132" y="7197"/>
                  <a:pt x="16966" y="7119"/>
                </a:cubicBezTo>
                <a:cubicBezTo>
                  <a:pt x="16909" y="7100"/>
                  <a:pt x="16902" y="7091"/>
                  <a:pt x="16867" y="7094"/>
                </a:cubicBezTo>
              </a:path>
              <a:path w="7839" h="7665">
                <a:moveTo>
                  <a:pt x="17413" y="7069"/>
                </a:moveTo>
                <a:cubicBezTo>
                  <a:pt x="17388" y="7021"/>
                  <a:pt x="17331" y="7148"/>
                  <a:pt x="17338" y="7169"/>
                </a:cubicBezTo>
                <a:cubicBezTo>
                  <a:pt x="17395" y="7339"/>
                  <a:pt x="17553" y="7224"/>
                  <a:pt x="17636" y="7169"/>
                </a:cubicBezTo>
                <a:cubicBezTo>
                  <a:pt x="17571" y="7067"/>
                  <a:pt x="17562" y="7064"/>
                  <a:pt x="17438" y="7045"/>
                </a:cubicBezTo>
                <a:cubicBezTo>
                  <a:pt x="17438" y="7020"/>
                  <a:pt x="17438" y="7012"/>
                  <a:pt x="17438" y="7045"/>
                </a:cubicBezTo>
                <a:cubicBezTo>
                  <a:pt x="17489" y="7112"/>
                  <a:pt x="17595" y="7127"/>
                  <a:pt x="17686" y="7094"/>
                </a:cubicBezTo>
                <a:cubicBezTo>
                  <a:pt x="17762" y="7067"/>
                  <a:pt x="17840" y="7016"/>
                  <a:pt x="17909" y="6995"/>
                </a:cubicBezTo>
                <a:cubicBezTo>
                  <a:pt x="17934" y="6995"/>
                  <a:pt x="17942" y="6995"/>
                  <a:pt x="17959" y="6995"/>
                </a:cubicBezTo>
                <a:cubicBezTo>
                  <a:pt x="17959" y="7196"/>
                  <a:pt x="17676" y="7401"/>
                  <a:pt x="17562" y="7541"/>
                </a:cubicBezTo>
                <a:cubicBezTo>
                  <a:pt x="17487" y="7634"/>
                  <a:pt x="17367" y="7793"/>
                  <a:pt x="17388" y="7813"/>
                </a:cubicBezTo>
              </a:path>
              <a:path w="7839" h="7665">
                <a:moveTo>
                  <a:pt x="10790" y="8409"/>
                </a:moveTo>
                <a:cubicBezTo>
                  <a:pt x="10790" y="8417"/>
                  <a:pt x="10790" y="8426"/>
                  <a:pt x="10790" y="8434"/>
                </a:cubicBezTo>
              </a:path>
              <a:path w="7839" h="7665">
                <a:moveTo>
                  <a:pt x="10889" y="8682"/>
                </a:moveTo>
                <a:cubicBezTo>
                  <a:pt x="10954" y="8682"/>
                  <a:pt x="10983" y="8648"/>
                  <a:pt x="10988" y="8558"/>
                </a:cubicBezTo>
              </a:path>
              <a:path w="7839" h="7665">
                <a:moveTo>
                  <a:pt x="11112" y="8458"/>
                </a:moveTo>
                <a:cubicBezTo>
                  <a:pt x="11146" y="8425"/>
                  <a:pt x="11173" y="8400"/>
                  <a:pt x="11212" y="8384"/>
                </a:cubicBezTo>
                <a:cubicBezTo>
                  <a:pt x="11212" y="8467"/>
                  <a:pt x="11202" y="8530"/>
                  <a:pt x="11187" y="8607"/>
                </a:cubicBezTo>
                <a:cubicBezTo>
                  <a:pt x="11257" y="8595"/>
                  <a:pt x="11295" y="8579"/>
                  <a:pt x="11361" y="8558"/>
                </a:cubicBezTo>
              </a:path>
              <a:path w="7839" h="7665">
                <a:moveTo>
                  <a:pt x="10864" y="9252"/>
                </a:moveTo>
                <a:cubicBezTo>
                  <a:pt x="10933" y="9240"/>
                  <a:pt x="10991" y="9227"/>
                  <a:pt x="11063" y="9227"/>
                </a:cubicBezTo>
                <a:cubicBezTo>
                  <a:pt x="11071" y="9227"/>
                  <a:pt x="11080" y="9227"/>
                  <a:pt x="11088" y="9227"/>
                </a:cubicBezTo>
              </a:path>
              <a:path w="7839" h="7665">
                <a:moveTo>
                  <a:pt x="11162" y="9203"/>
                </a:moveTo>
                <a:cubicBezTo>
                  <a:pt x="11203" y="9203"/>
                  <a:pt x="11245" y="9203"/>
                  <a:pt x="11286" y="9203"/>
                </a:cubicBezTo>
                <a:cubicBezTo>
                  <a:pt x="11286" y="9311"/>
                  <a:pt x="11249" y="9318"/>
                  <a:pt x="11187" y="9401"/>
                </a:cubicBezTo>
                <a:cubicBezTo>
                  <a:pt x="11248" y="9401"/>
                  <a:pt x="11316" y="9403"/>
                  <a:pt x="11361" y="9351"/>
                </a:cubicBezTo>
                <a:cubicBezTo>
                  <a:pt x="11369" y="9335"/>
                  <a:pt x="11377" y="9318"/>
                  <a:pt x="11385" y="9302"/>
                </a:cubicBezTo>
              </a:path>
              <a:path w="7839" h="7665">
                <a:moveTo>
                  <a:pt x="11633" y="8880"/>
                </a:moveTo>
                <a:cubicBezTo>
                  <a:pt x="11633" y="8848"/>
                  <a:pt x="11654" y="8851"/>
                  <a:pt x="11683" y="8830"/>
                </a:cubicBezTo>
              </a:path>
              <a:path w="7839" h="7665">
                <a:moveTo>
                  <a:pt x="11559" y="8979"/>
                </a:moveTo>
                <a:cubicBezTo>
                  <a:pt x="11629" y="8979"/>
                  <a:pt x="11655" y="8986"/>
                  <a:pt x="11708" y="8954"/>
                </a:cubicBezTo>
              </a:path>
              <a:path w="7839" h="7665">
                <a:moveTo>
                  <a:pt x="12402" y="8434"/>
                </a:moveTo>
                <a:cubicBezTo>
                  <a:pt x="12458" y="8434"/>
                  <a:pt x="12601" y="8414"/>
                  <a:pt x="12626" y="8483"/>
                </a:cubicBezTo>
                <a:cubicBezTo>
                  <a:pt x="12681" y="8633"/>
                  <a:pt x="12445" y="8673"/>
                  <a:pt x="12427" y="8781"/>
                </a:cubicBezTo>
                <a:cubicBezTo>
                  <a:pt x="12435" y="8789"/>
                  <a:pt x="12444" y="8798"/>
                  <a:pt x="12452" y="8806"/>
                </a:cubicBezTo>
                <a:cubicBezTo>
                  <a:pt x="12593" y="8759"/>
                  <a:pt x="12729" y="8697"/>
                  <a:pt x="12874" y="8682"/>
                </a:cubicBezTo>
                <a:cubicBezTo>
                  <a:pt x="12901" y="8682"/>
                  <a:pt x="12907" y="8684"/>
                  <a:pt x="12874" y="8706"/>
                </a:cubicBezTo>
              </a:path>
              <a:path w="7839" h="7665">
                <a:moveTo>
                  <a:pt x="12204" y="9079"/>
                </a:moveTo>
                <a:cubicBezTo>
                  <a:pt x="12408" y="8982"/>
                  <a:pt x="12598" y="8911"/>
                  <a:pt x="12824" y="8880"/>
                </a:cubicBezTo>
                <a:cubicBezTo>
                  <a:pt x="12865" y="8880"/>
                  <a:pt x="12873" y="8880"/>
                  <a:pt x="12898" y="8880"/>
                </a:cubicBezTo>
              </a:path>
              <a:path w="7839" h="7665">
                <a:moveTo>
                  <a:pt x="12254" y="9203"/>
                </a:moveTo>
                <a:cubicBezTo>
                  <a:pt x="12246" y="9203"/>
                  <a:pt x="12237" y="9203"/>
                  <a:pt x="12229" y="9203"/>
                </a:cubicBezTo>
                <a:cubicBezTo>
                  <a:pt x="12246" y="9300"/>
                  <a:pt x="12315" y="9246"/>
                  <a:pt x="12402" y="9277"/>
                </a:cubicBezTo>
                <a:cubicBezTo>
                  <a:pt x="12410" y="9285"/>
                  <a:pt x="12419" y="9294"/>
                  <a:pt x="12427" y="9302"/>
                </a:cubicBezTo>
                <a:cubicBezTo>
                  <a:pt x="12389" y="9404"/>
                  <a:pt x="12336" y="9425"/>
                  <a:pt x="12229" y="9401"/>
                </a:cubicBezTo>
              </a:path>
              <a:path w="7839" h="7665">
                <a:moveTo>
                  <a:pt x="12254" y="9153"/>
                </a:moveTo>
                <a:cubicBezTo>
                  <a:pt x="12341" y="9118"/>
                  <a:pt x="12431" y="9087"/>
                  <a:pt x="12526" y="9079"/>
                </a:cubicBezTo>
                <a:cubicBezTo>
                  <a:pt x="12534" y="9079"/>
                  <a:pt x="12543" y="9079"/>
                  <a:pt x="12551" y="9079"/>
                </a:cubicBezTo>
              </a:path>
              <a:path w="7839" h="7665">
                <a:moveTo>
                  <a:pt x="12650" y="9103"/>
                </a:moveTo>
                <a:cubicBezTo>
                  <a:pt x="12621" y="9174"/>
                  <a:pt x="12566" y="9272"/>
                  <a:pt x="12675" y="9277"/>
                </a:cubicBezTo>
                <a:cubicBezTo>
                  <a:pt x="12752" y="9281"/>
                  <a:pt x="12879" y="9177"/>
                  <a:pt x="12799" y="9103"/>
                </a:cubicBezTo>
                <a:cubicBezTo>
                  <a:pt x="12783" y="9095"/>
                  <a:pt x="12766" y="9087"/>
                  <a:pt x="12750" y="9079"/>
                </a:cubicBezTo>
              </a:path>
              <a:path w="7839" h="7665">
                <a:moveTo>
                  <a:pt x="12824" y="8533"/>
                </a:moveTo>
                <a:cubicBezTo>
                  <a:pt x="12891" y="8533"/>
                  <a:pt x="12942" y="8515"/>
                  <a:pt x="12998" y="8483"/>
                </a:cubicBezTo>
              </a:path>
              <a:path w="7839" h="7665">
                <a:moveTo>
                  <a:pt x="12923" y="8409"/>
                </a:moveTo>
                <a:lnTo>
                  <a:pt x="12923" y="8409"/>
                </a:lnTo>
              </a:path>
              <a:path w="7839" h="7665">
                <a:moveTo>
                  <a:pt x="13047" y="8682"/>
                </a:moveTo>
                <a:cubicBezTo>
                  <a:pt x="13047" y="8674"/>
                  <a:pt x="13047" y="8665"/>
                  <a:pt x="13047" y="8657"/>
                </a:cubicBezTo>
              </a:path>
              <a:path w="7839" h="7665">
                <a:moveTo>
                  <a:pt x="13146" y="8458"/>
                </a:moveTo>
                <a:cubicBezTo>
                  <a:pt x="13171" y="8458"/>
                  <a:pt x="13196" y="8458"/>
                  <a:pt x="13221" y="8458"/>
                </a:cubicBezTo>
                <a:cubicBezTo>
                  <a:pt x="13214" y="8524"/>
                  <a:pt x="13198" y="8571"/>
                  <a:pt x="13171" y="8632"/>
                </a:cubicBezTo>
                <a:cubicBezTo>
                  <a:pt x="13229" y="8632"/>
                  <a:pt x="13271" y="8632"/>
                  <a:pt x="13320" y="8607"/>
                </a:cubicBezTo>
              </a:path>
              <a:path w="7839" h="7665">
                <a:moveTo>
                  <a:pt x="12874" y="9252"/>
                </a:moveTo>
                <a:cubicBezTo>
                  <a:pt x="12936" y="9252"/>
                  <a:pt x="12987" y="9267"/>
                  <a:pt x="13047" y="9277"/>
                </a:cubicBezTo>
              </a:path>
              <a:path w="7839" h="7665">
                <a:moveTo>
                  <a:pt x="12998" y="9079"/>
                </a:moveTo>
                <a:lnTo>
                  <a:pt x="12998" y="9079"/>
                </a:lnTo>
              </a:path>
              <a:path w="7839" h="7665">
                <a:moveTo>
                  <a:pt x="12973" y="9401"/>
                </a:moveTo>
                <a:lnTo>
                  <a:pt x="12973" y="9401"/>
                </a:lnTo>
              </a:path>
              <a:path w="7839" h="7665">
                <a:moveTo>
                  <a:pt x="13122" y="9302"/>
                </a:moveTo>
                <a:cubicBezTo>
                  <a:pt x="13171" y="9302"/>
                  <a:pt x="13249" y="9294"/>
                  <a:pt x="13221" y="9376"/>
                </a:cubicBezTo>
                <a:cubicBezTo>
                  <a:pt x="13209" y="9412"/>
                  <a:pt x="13181" y="9436"/>
                  <a:pt x="13171" y="9475"/>
                </a:cubicBezTo>
                <a:cubicBezTo>
                  <a:pt x="13225" y="9475"/>
                  <a:pt x="13304" y="9496"/>
                  <a:pt x="13320" y="9451"/>
                </a:cubicBezTo>
              </a:path>
              <a:path w="7839" h="7665">
                <a:moveTo>
                  <a:pt x="13419" y="8855"/>
                </a:moveTo>
                <a:cubicBezTo>
                  <a:pt x="13436" y="8855"/>
                  <a:pt x="13452" y="8855"/>
                  <a:pt x="13469" y="8855"/>
                </a:cubicBezTo>
              </a:path>
              <a:path w="7839" h="7665">
                <a:moveTo>
                  <a:pt x="13395" y="8930"/>
                </a:moveTo>
                <a:lnTo>
                  <a:pt x="13395" y="8930"/>
                </a:lnTo>
                <a:lnTo>
                  <a:pt x="13395" y="8930"/>
                </a:lnTo>
              </a:path>
              <a:path w="7839" h="7665">
                <a:moveTo>
                  <a:pt x="13791" y="8434"/>
                </a:moveTo>
                <a:cubicBezTo>
                  <a:pt x="13798" y="8529"/>
                  <a:pt x="13825" y="8614"/>
                  <a:pt x="13841" y="8706"/>
                </a:cubicBezTo>
              </a:path>
              <a:path w="7839" h="7665">
                <a:moveTo>
                  <a:pt x="13618" y="8880"/>
                </a:moveTo>
                <a:cubicBezTo>
                  <a:pt x="13765" y="8840"/>
                  <a:pt x="13915" y="8816"/>
                  <a:pt x="14064" y="8781"/>
                </a:cubicBezTo>
              </a:path>
              <a:path w="7839" h="7665">
                <a:moveTo>
                  <a:pt x="13568" y="9203"/>
                </a:moveTo>
                <a:cubicBezTo>
                  <a:pt x="13589" y="9187"/>
                  <a:pt x="13760" y="9141"/>
                  <a:pt x="13791" y="9227"/>
                </a:cubicBezTo>
                <a:cubicBezTo>
                  <a:pt x="13827" y="9325"/>
                  <a:pt x="13678" y="9382"/>
                  <a:pt x="13618" y="9426"/>
                </a:cubicBezTo>
                <a:cubicBezTo>
                  <a:pt x="13593" y="9426"/>
                  <a:pt x="13585" y="9426"/>
                  <a:pt x="13593" y="9401"/>
                </a:cubicBezTo>
                <a:cubicBezTo>
                  <a:pt x="13602" y="9309"/>
                  <a:pt x="13652" y="9250"/>
                  <a:pt x="13767" y="9302"/>
                </a:cubicBezTo>
                <a:cubicBezTo>
                  <a:pt x="13829" y="9330"/>
                  <a:pt x="13844" y="9398"/>
                  <a:pt x="13866" y="9376"/>
                </a:cubicBezTo>
              </a:path>
              <a:path w="7839" h="7665">
                <a:moveTo>
                  <a:pt x="14064" y="9004"/>
                </a:moveTo>
                <a:cubicBezTo>
                  <a:pt x="14033" y="9004"/>
                  <a:pt x="13998" y="9012"/>
                  <a:pt x="13990" y="9029"/>
                </a:cubicBezTo>
                <a:cubicBezTo>
                  <a:pt x="13959" y="9089"/>
                  <a:pt x="13965" y="9139"/>
                  <a:pt x="13965" y="9203"/>
                </a:cubicBezTo>
                <a:cubicBezTo>
                  <a:pt x="13994" y="9193"/>
                  <a:pt x="14119" y="9140"/>
                  <a:pt x="14139" y="9153"/>
                </a:cubicBezTo>
                <a:cubicBezTo>
                  <a:pt x="14255" y="9229"/>
                  <a:pt x="14191" y="9272"/>
                  <a:pt x="14139" y="9351"/>
                </a:cubicBezTo>
                <a:cubicBezTo>
                  <a:pt x="14099" y="9411"/>
                  <a:pt x="14110" y="9401"/>
                  <a:pt x="14039" y="9401"/>
                </a:cubicBezTo>
              </a:path>
              <a:path w="7839" h="7665">
                <a:moveTo>
                  <a:pt x="14064" y="9054"/>
                </a:moveTo>
                <a:cubicBezTo>
                  <a:pt x="14064" y="9029"/>
                  <a:pt x="14064" y="9021"/>
                  <a:pt x="14039" y="9029"/>
                </a:cubicBezTo>
                <a:cubicBezTo>
                  <a:pt x="14088" y="9013"/>
                  <a:pt x="14116" y="8993"/>
                  <a:pt x="14139" y="8954"/>
                </a:cubicBezTo>
                <a:cubicBezTo>
                  <a:pt x="14163" y="8954"/>
                  <a:pt x="14172" y="8954"/>
                  <a:pt x="14188" y="8954"/>
                </a:cubicBezTo>
              </a:path>
              <a:path w="7839" h="7665">
                <a:moveTo>
                  <a:pt x="18256" y="11038"/>
                </a:moveTo>
                <a:cubicBezTo>
                  <a:pt x="18190" y="11149"/>
                  <a:pt x="18165" y="11175"/>
                  <a:pt x="18182" y="11261"/>
                </a:cubicBezTo>
                <a:cubicBezTo>
                  <a:pt x="18258" y="11250"/>
                  <a:pt x="18586" y="11159"/>
                  <a:pt x="18504" y="11013"/>
                </a:cubicBezTo>
                <a:cubicBezTo>
                  <a:pt x="18479" y="11013"/>
                  <a:pt x="18455" y="11013"/>
                  <a:pt x="18430" y="11013"/>
                </a:cubicBezTo>
              </a:path>
              <a:path w="7839" h="7665">
                <a:moveTo>
                  <a:pt x="12080" y="10344"/>
                </a:moveTo>
                <a:cubicBezTo>
                  <a:pt x="12097" y="10427"/>
                  <a:pt x="12153" y="10551"/>
                  <a:pt x="12204" y="10616"/>
                </a:cubicBezTo>
                <a:cubicBezTo>
                  <a:pt x="12212" y="10616"/>
                  <a:pt x="12221" y="10616"/>
                  <a:pt x="12229" y="10616"/>
                </a:cubicBezTo>
              </a:path>
              <a:path w="7839" h="7665">
                <a:moveTo>
                  <a:pt x="12278" y="10294"/>
                </a:moveTo>
                <a:cubicBezTo>
                  <a:pt x="12246" y="10407"/>
                  <a:pt x="12190" y="10537"/>
                  <a:pt x="12129" y="10641"/>
                </a:cubicBezTo>
                <a:cubicBezTo>
                  <a:pt x="12097" y="10675"/>
                  <a:pt x="12097" y="10674"/>
                  <a:pt x="12154" y="10616"/>
                </a:cubicBezTo>
              </a:path>
              <a:path w="7839" h="7665">
                <a:moveTo>
                  <a:pt x="12626" y="10244"/>
                </a:moveTo>
                <a:cubicBezTo>
                  <a:pt x="12626" y="10310"/>
                  <a:pt x="12626" y="10459"/>
                  <a:pt x="12626" y="10393"/>
                </a:cubicBezTo>
              </a:path>
              <a:path w="7839" h="7665">
                <a:moveTo>
                  <a:pt x="12774" y="10120"/>
                </a:moveTo>
                <a:cubicBezTo>
                  <a:pt x="12774" y="10185"/>
                  <a:pt x="12756" y="10349"/>
                  <a:pt x="12874" y="10319"/>
                </a:cubicBezTo>
                <a:cubicBezTo>
                  <a:pt x="12982" y="10292"/>
                  <a:pt x="13087" y="10083"/>
                  <a:pt x="12923" y="10096"/>
                </a:cubicBezTo>
                <a:cubicBezTo>
                  <a:pt x="12898" y="10104"/>
                  <a:pt x="12874" y="10112"/>
                  <a:pt x="12849" y="10120"/>
                </a:cubicBezTo>
              </a:path>
              <a:path w="7839" h="7665">
                <a:moveTo>
                  <a:pt x="12601" y="10616"/>
                </a:moveTo>
                <a:cubicBezTo>
                  <a:pt x="12698" y="10584"/>
                  <a:pt x="12941" y="10449"/>
                  <a:pt x="13047" y="10492"/>
                </a:cubicBezTo>
                <a:cubicBezTo>
                  <a:pt x="13047" y="10500"/>
                  <a:pt x="13047" y="10509"/>
                  <a:pt x="13047" y="10517"/>
                </a:cubicBezTo>
              </a:path>
              <a:path w="7839" h="7665">
                <a:moveTo>
                  <a:pt x="13692" y="10145"/>
                </a:moveTo>
                <a:cubicBezTo>
                  <a:pt x="13769" y="10119"/>
                  <a:pt x="13647" y="10051"/>
                  <a:pt x="13593" y="10071"/>
                </a:cubicBezTo>
                <a:cubicBezTo>
                  <a:pt x="13522" y="10098"/>
                  <a:pt x="13527" y="10186"/>
                  <a:pt x="13519" y="10244"/>
                </a:cubicBezTo>
                <a:cubicBezTo>
                  <a:pt x="13603" y="10234"/>
                  <a:pt x="13785" y="10145"/>
                  <a:pt x="13791" y="10145"/>
                </a:cubicBezTo>
                <a:cubicBezTo>
                  <a:pt x="13807" y="10242"/>
                  <a:pt x="13793" y="10318"/>
                  <a:pt x="13767" y="10418"/>
                </a:cubicBezTo>
              </a:path>
              <a:path w="7839" h="7665">
                <a:moveTo>
                  <a:pt x="14064" y="9947"/>
                </a:moveTo>
                <a:cubicBezTo>
                  <a:pt x="14015" y="10110"/>
                  <a:pt x="13987" y="10148"/>
                  <a:pt x="14039" y="10294"/>
                </a:cubicBezTo>
                <a:cubicBezTo>
                  <a:pt x="14082" y="10271"/>
                  <a:pt x="14386" y="10045"/>
                  <a:pt x="14188" y="10021"/>
                </a:cubicBezTo>
                <a:cubicBezTo>
                  <a:pt x="14082" y="10048"/>
                  <a:pt x="14043" y="10060"/>
                  <a:pt x="13990" y="10120"/>
                </a:cubicBezTo>
              </a:path>
              <a:path w="7839" h="7665">
                <a:moveTo>
                  <a:pt x="13568" y="10691"/>
                </a:moveTo>
                <a:cubicBezTo>
                  <a:pt x="13833" y="10622"/>
                  <a:pt x="14080" y="10511"/>
                  <a:pt x="14337" y="10418"/>
                </a:cubicBezTo>
                <a:cubicBezTo>
                  <a:pt x="14345" y="10418"/>
                  <a:pt x="14354" y="10418"/>
                  <a:pt x="14362" y="10418"/>
                </a:cubicBezTo>
              </a:path>
              <a:path w="7839" h="7665">
                <a:moveTo>
                  <a:pt x="13519" y="10840"/>
                </a:moveTo>
                <a:cubicBezTo>
                  <a:pt x="13496" y="10919"/>
                  <a:pt x="13331" y="11303"/>
                  <a:pt x="13469" y="11137"/>
                </a:cubicBezTo>
              </a:path>
              <a:path w="7839" h="7665">
                <a:moveTo>
                  <a:pt x="13742" y="10815"/>
                </a:moveTo>
                <a:cubicBezTo>
                  <a:pt x="13705" y="10888"/>
                  <a:pt x="13665" y="10962"/>
                  <a:pt x="13643" y="11038"/>
                </a:cubicBezTo>
                <a:cubicBezTo>
                  <a:pt x="13737" y="11006"/>
                  <a:pt x="13964" y="10935"/>
                  <a:pt x="13816" y="10815"/>
                </a:cubicBezTo>
                <a:cubicBezTo>
                  <a:pt x="13800" y="10807"/>
                  <a:pt x="13783" y="10798"/>
                  <a:pt x="13767" y="10790"/>
                </a:cubicBezTo>
              </a:path>
              <a:path w="7839" h="7665">
                <a:moveTo>
                  <a:pt x="14064" y="10815"/>
                </a:moveTo>
                <a:cubicBezTo>
                  <a:pt x="14056" y="10856"/>
                  <a:pt x="14047" y="10898"/>
                  <a:pt x="14039" y="10939"/>
                </a:cubicBezTo>
                <a:cubicBezTo>
                  <a:pt x="14123" y="10975"/>
                  <a:pt x="14310" y="10944"/>
                  <a:pt x="14263" y="10790"/>
                </a:cubicBezTo>
                <a:cubicBezTo>
                  <a:pt x="14222" y="10653"/>
                  <a:pt x="14052" y="10725"/>
                  <a:pt x="13965" y="10740"/>
                </a:cubicBezTo>
              </a:path>
              <a:path w="7839" h="7665">
                <a:moveTo>
                  <a:pt x="18529" y="12452"/>
                </a:moveTo>
                <a:cubicBezTo>
                  <a:pt x="18471" y="12563"/>
                  <a:pt x="18442" y="12605"/>
                  <a:pt x="18430" y="12725"/>
                </a:cubicBezTo>
                <a:cubicBezTo>
                  <a:pt x="18467" y="12716"/>
                  <a:pt x="18749" y="12600"/>
                  <a:pt x="18604" y="12526"/>
                </a:cubicBezTo>
                <a:cubicBezTo>
                  <a:pt x="18562" y="12518"/>
                  <a:pt x="18521" y="12510"/>
                  <a:pt x="18479" y="12502"/>
                </a:cubicBezTo>
              </a:path>
              <a:path w="7839" h="7665">
                <a:moveTo>
                  <a:pt x="11063" y="13146"/>
                </a:moveTo>
                <a:cubicBezTo>
                  <a:pt x="11063" y="13189"/>
                  <a:pt x="11069" y="13214"/>
                  <a:pt x="11088" y="13246"/>
                </a:cubicBezTo>
              </a:path>
              <a:path w="7839" h="7665">
                <a:moveTo>
                  <a:pt x="11212" y="13568"/>
                </a:moveTo>
                <a:lnTo>
                  <a:pt x="11212" y="13568"/>
                </a:lnTo>
                <a:lnTo>
                  <a:pt x="11212" y="13568"/>
                </a:lnTo>
              </a:path>
              <a:path w="7839" h="7665">
                <a:moveTo>
                  <a:pt x="11212" y="13568"/>
                </a:moveTo>
                <a:lnTo>
                  <a:pt x="11212" y="13568"/>
                </a:lnTo>
              </a:path>
              <a:path w="7839" h="7665">
                <a:moveTo>
                  <a:pt x="11435" y="12973"/>
                </a:moveTo>
                <a:cubicBezTo>
                  <a:pt x="11443" y="13155"/>
                  <a:pt x="11480" y="13319"/>
                  <a:pt x="11509" y="13494"/>
                </a:cubicBezTo>
              </a:path>
              <a:path w="7839" h="7665">
                <a:moveTo>
                  <a:pt x="11261" y="13965"/>
                </a:moveTo>
                <a:cubicBezTo>
                  <a:pt x="11261" y="13982"/>
                  <a:pt x="11261" y="13998"/>
                  <a:pt x="11261" y="14015"/>
                </a:cubicBezTo>
              </a:path>
              <a:path w="7839" h="7665">
                <a:moveTo>
                  <a:pt x="11261" y="14015"/>
                </a:moveTo>
                <a:lnTo>
                  <a:pt x="11261" y="14015"/>
                </a:lnTo>
              </a:path>
              <a:path w="7839" h="7665">
                <a:moveTo>
                  <a:pt x="11187" y="14436"/>
                </a:moveTo>
                <a:lnTo>
                  <a:pt x="11187" y="14436"/>
                </a:lnTo>
              </a:path>
              <a:path w="7839" h="7665">
                <a:moveTo>
                  <a:pt x="11485" y="14089"/>
                </a:moveTo>
                <a:cubicBezTo>
                  <a:pt x="11441" y="14144"/>
                  <a:pt x="11422" y="14193"/>
                  <a:pt x="11410" y="14263"/>
                </a:cubicBezTo>
                <a:cubicBezTo>
                  <a:pt x="11498" y="14245"/>
                  <a:pt x="11555" y="14212"/>
                  <a:pt x="11633" y="14163"/>
                </a:cubicBezTo>
              </a:path>
              <a:path w="7839" h="7665">
                <a:moveTo>
                  <a:pt x="11782" y="13816"/>
                </a:moveTo>
                <a:cubicBezTo>
                  <a:pt x="11843" y="13826"/>
                  <a:pt x="11893" y="13836"/>
                  <a:pt x="11956" y="13841"/>
                </a:cubicBezTo>
              </a:path>
              <a:path w="7839" h="7665">
                <a:moveTo>
                  <a:pt x="11807" y="13940"/>
                </a:moveTo>
                <a:cubicBezTo>
                  <a:pt x="11868" y="13930"/>
                  <a:pt x="11918" y="13920"/>
                  <a:pt x="11981" y="13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9640" y="2697120"/>
            <a:ext cx="3054240" cy="1982880"/>
          </a:xfrm>
          <a:custGeom>
            <a:avLst/>
            <a:gdLst/>
            <a:ahLst/>
            <a:rect l="l" t="t" r="r" b="b"/>
            <a:pathLst>
              <a:path w="8484" h="5508">
                <a:moveTo>
                  <a:pt x="17810" y="7541"/>
                </a:moveTo>
                <a:cubicBezTo>
                  <a:pt x="17748" y="7630"/>
                  <a:pt x="17697" y="7673"/>
                  <a:pt x="17711" y="7764"/>
                </a:cubicBezTo>
                <a:cubicBezTo>
                  <a:pt x="17768" y="7752"/>
                  <a:pt x="18107" y="7634"/>
                  <a:pt x="17959" y="7516"/>
                </a:cubicBezTo>
                <a:cubicBezTo>
                  <a:pt x="17926" y="7508"/>
                  <a:pt x="17892" y="7499"/>
                  <a:pt x="17859" y="7491"/>
                </a:cubicBezTo>
              </a:path>
              <a:path w="8484" h="5508">
                <a:moveTo>
                  <a:pt x="12626" y="10815"/>
                </a:moveTo>
                <a:cubicBezTo>
                  <a:pt x="12578" y="10919"/>
                  <a:pt x="12478" y="11038"/>
                  <a:pt x="12576" y="11038"/>
                </a:cubicBezTo>
              </a:path>
              <a:path w="8484" h="5508">
                <a:moveTo>
                  <a:pt x="12750" y="10914"/>
                </a:moveTo>
                <a:cubicBezTo>
                  <a:pt x="12750" y="10922"/>
                  <a:pt x="12750" y="10931"/>
                  <a:pt x="12750" y="10939"/>
                </a:cubicBezTo>
                <a:cubicBezTo>
                  <a:pt x="12891" y="10955"/>
                  <a:pt x="12888" y="10872"/>
                  <a:pt x="12923" y="10740"/>
                </a:cubicBezTo>
                <a:cubicBezTo>
                  <a:pt x="12850" y="10716"/>
                  <a:pt x="12826" y="10708"/>
                  <a:pt x="12774" y="10716"/>
                </a:cubicBezTo>
              </a:path>
              <a:path w="8484" h="5508">
                <a:moveTo>
                  <a:pt x="13221" y="10517"/>
                </a:moveTo>
                <a:cubicBezTo>
                  <a:pt x="13289" y="10517"/>
                  <a:pt x="13308" y="10520"/>
                  <a:pt x="13345" y="10492"/>
                </a:cubicBezTo>
              </a:path>
              <a:path w="8484" h="5508">
                <a:moveTo>
                  <a:pt x="13122" y="10740"/>
                </a:moveTo>
                <a:cubicBezTo>
                  <a:pt x="13222" y="10740"/>
                  <a:pt x="13256" y="10740"/>
                  <a:pt x="13320" y="10716"/>
                </a:cubicBezTo>
              </a:path>
              <a:path w="8484" h="5508">
                <a:moveTo>
                  <a:pt x="9575" y="12576"/>
                </a:moveTo>
                <a:cubicBezTo>
                  <a:pt x="9568" y="12731"/>
                  <a:pt x="9537" y="12851"/>
                  <a:pt x="9500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91120" y="3062160"/>
            <a:ext cx="554040" cy="438120"/>
          </a:xfrm>
          <a:custGeom>
            <a:avLst/>
            <a:gdLst/>
            <a:ahLst/>
            <a:rect l="l" t="t" r="r" b="b"/>
            <a:pathLst>
              <a:path w="1539" h="1216">
                <a:moveTo>
                  <a:pt x="16644" y="8632"/>
                </a:moveTo>
                <a:cubicBezTo>
                  <a:pt x="16644" y="8607"/>
                  <a:pt x="16644" y="8583"/>
                  <a:pt x="16644" y="8558"/>
                </a:cubicBezTo>
                <a:cubicBezTo>
                  <a:pt x="16705" y="8577"/>
                  <a:pt x="16669" y="8796"/>
                  <a:pt x="16669" y="8855"/>
                </a:cubicBezTo>
                <a:cubicBezTo>
                  <a:pt x="16669" y="8929"/>
                  <a:pt x="16669" y="8938"/>
                  <a:pt x="16669" y="8979"/>
                </a:cubicBezTo>
                <a:cubicBezTo>
                  <a:pt x="16758" y="9005"/>
                  <a:pt x="16928" y="8993"/>
                  <a:pt x="17041" y="9004"/>
                </a:cubicBezTo>
                <a:cubicBezTo>
                  <a:pt x="17082" y="9004"/>
                  <a:pt x="17090" y="9004"/>
                  <a:pt x="17115" y="9004"/>
                </a:cubicBezTo>
              </a:path>
              <a:path w="1539" h="1216">
                <a:moveTo>
                  <a:pt x="16991" y="8508"/>
                </a:moveTo>
                <a:cubicBezTo>
                  <a:pt x="17038" y="8741"/>
                  <a:pt x="17099" y="8963"/>
                  <a:pt x="17115" y="9203"/>
                </a:cubicBezTo>
                <a:cubicBezTo>
                  <a:pt x="17123" y="9319"/>
                  <a:pt x="17140" y="9567"/>
                  <a:pt x="17140" y="9451"/>
                </a:cubicBezTo>
              </a:path>
              <a:path w="1539" h="1216">
                <a:moveTo>
                  <a:pt x="17388" y="8781"/>
                </a:moveTo>
                <a:cubicBezTo>
                  <a:pt x="17351" y="8669"/>
                  <a:pt x="17287" y="8943"/>
                  <a:pt x="17289" y="8954"/>
                </a:cubicBezTo>
                <a:cubicBezTo>
                  <a:pt x="17305" y="8979"/>
                  <a:pt x="17322" y="9004"/>
                  <a:pt x="17338" y="9029"/>
                </a:cubicBezTo>
                <a:cubicBezTo>
                  <a:pt x="17479" y="9013"/>
                  <a:pt x="17581" y="8945"/>
                  <a:pt x="17512" y="8781"/>
                </a:cubicBezTo>
                <a:cubicBezTo>
                  <a:pt x="17455" y="8753"/>
                  <a:pt x="17432" y="8742"/>
                  <a:pt x="17388" y="8731"/>
                </a:cubicBezTo>
                <a:cubicBezTo>
                  <a:pt x="17475" y="8819"/>
                  <a:pt x="17635" y="8759"/>
                  <a:pt x="17760" y="8731"/>
                </a:cubicBezTo>
                <a:cubicBezTo>
                  <a:pt x="17834" y="8712"/>
                  <a:pt x="17841" y="8704"/>
                  <a:pt x="17884" y="8706"/>
                </a:cubicBezTo>
                <a:cubicBezTo>
                  <a:pt x="17867" y="8976"/>
                  <a:pt x="17781" y="9199"/>
                  <a:pt x="17686" y="9451"/>
                </a:cubicBezTo>
                <a:cubicBezTo>
                  <a:pt x="17627" y="9607"/>
                  <a:pt x="17616" y="9631"/>
                  <a:pt x="17587" y="9723"/>
                </a:cubicBezTo>
              </a:path>
              <a:path w="1539" h="1216">
                <a:moveTo>
                  <a:pt x="18033" y="9351"/>
                </a:moveTo>
                <a:cubicBezTo>
                  <a:pt x="17997" y="9450"/>
                  <a:pt x="17958" y="9558"/>
                  <a:pt x="17983" y="9649"/>
                </a:cubicBezTo>
                <a:cubicBezTo>
                  <a:pt x="18056" y="9595"/>
                  <a:pt x="18309" y="9402"/>
                  <a:pt x="18107" y="9351"/>
                </a:cubicBezTo>
                <a:cubicBezTo>
                  <a:pt x="18074" y="9351"/>
                  <a:pt x="18041" y="9351"/>
                  <a:pt x="18008" y="9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35080" y="2509920"/>
            <a:ext cx="304920" cy="295200"/>
          </a:xfrm>
          <a:custGeom>
            <a:avLst/>
            <a:gdLst/>
            <a:ahLst/>
            <a:rect l="l" t="t" r="r" b="b"/>
            <a:pathLst>
              <a:path w="845" h="820">
                <a:moveTo>
                  <a:pt x="6028" y="6970"/>
                </a:moveTo>
                <a:cubicBezTo>
                  <a:pt x="5846" y="6990"/>
                  <a:pt x="5798" y="7070"/>
                  <a:pt x="5730" y="7243"/>
                </a:cubicBezTo>
                <a:cubicBezTo>
                  <a:pt x="5657" y="7429"/>
                  <a:pt x="5664" y="7534"/>
                  <a:pt x="5705" y="7714"/>
                </a:cubicBezTo>
                <a:cubicBezTo>
                  <a:pt x="5943" y="7803"/>
                  <a:pt x="6104" y="7726"/>
                  <a:pt x="6226" y="7466"/>
                </a:cubicBezTo>
                <a:cubicBezTo>
                  <a:pt x="6299" y="7309"/>
                  <a:pt x="6304" y="7089"/>
                  <a:pt x="6127" y="7020"/>
                </a:cubicBezTo>
                <a:cubicBezTo>
                  <a:pt x="6021" y="6979"/>
                  <a:pt x="6016" y="6956"/>
                  <a:pt x="6003" y="7020"/>
                </a:cubicBezTo>
              </a:path>
              <a:path w="845" h="820">
                <a:moveTo>
                  <a:pt x="6424" y="7541"/>
                </a:moveTo>
                <a:cubicBezTo>
                  <a:pt x="6396" y="7611"/>
                  <a:pt x="6382" y="7651"/>
                  <a:pt x="6400" y="7714"/>
                </a:cubicBezTo>
                <a:cubicBezTo>
                  <a:pt x="6423" y="7694"/>
                  <a:pt x="6541" y="7547"/>
                  <a:pt x="6424" y="7590"/>
                </a:cubicBezTo>
                <a:cubicBezTo>
                  <a:pt x="6382" y="7633"/>
                  <a:pt x="6397" y="7630"/>
                  <a:pt x="6499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2920" y="2517840"/>
            <a:ext cx="384120" cy="268200"/>
          </a:xfrm>
          <a:custGeom>
            <a:avLst/>
            <a:gdLst/>
            <a:ahLst/>
            <a:rect l="l" t="t" r="r" b="b"/>
            <a:pathLst>
              <a:path w="1067" h="745">
                <a:moveTo>
                  <a:pt x="6896" y="7144"/>
                </a:moveTo>
                <a:cubicBezTo>
                  <a:pt x="6917" y="7041"/>
                  <a:pt x="6993" y="7012"/>
                  <a:pt x="7094" y="6995"/>
                </a:cubicBezTo>
                <a:cubicBezTo>
                  <a:pt x="7119" y="6995"/>
                  <a:pt x="7144" y="6995"/>
                  <a:pt x="7169" y="6995"/>
                </a:cubicBezTo>
                <a:cubicBezTo>
                  <a:pt x="7208" y="7169"/>
                  <a:pt x="7179" y="7184"/>
                  <a:pt x="7045" y="7293"/>
                </a:cubicBezTo>
                <a:cubicBezTo>
                  <a:pt x="7022" y="7315"/>
                  <a:pt x="7017" y="7323"/>
                  <a:pt x="6995" y="7317"/>
                </a:cubicBezTo>
                <a:cubicBezTo>
                  <a:pt x="7107" y="7276"/>
                  <a:pt x="7293" y="7283"/>
                  <a:pt x="7293" y="7466"/>
                </a:cubicBezTo>
                <a:cubicBezTo>
                  <a:pt x="7293" y="7667"/>
                  <a:pt x="7079" y="7741"/>
                  <a:pt x="6921" y="7689"/>
                </a:cubicBezTo>
                <a:cubicBezTo>
                  <a:pt x="6913" y="7681"/>
                  <a:pt x="6904" y="7673"/>
                  <a:pt x="6896" y="7665"/>
                </a:cubicBezTo>
              </a:path>
              <a:path w="1067" h="745">
                <a:moveTo>
                  <a:pt x="7689" y="7069"/>
                </a:moveTo>
                <a:cubicBezTo>
                  <a:pt x="7671" y="7016"/>
                  <a:pt x="7657" y="7057"/>
                  <a:pt x="7640" y="7069"/>
                </a:cubicBezTo>
                <a:cubicBezTo>
                  <a:pt x="7513" y="7160"/>
                  <a:pt x="7527" y="7161"/>
                  <a:pt x="7466" y="7317"/>
                </a:cubicBezTo>
                <a:cubicBezTo>
                  <a:pt x="7412" y="7454"/>
                  <a:pt x="7403" y="7526"/>
                  <a:pt x="7466" y="7665"/>
                </a:cubicBezTo>
                <a:cubicBezTo>
                  <a:pt x="7505" y="7751"/>
                  <a:pt x="7525" y="7739"/>
                  <a:pt x="7615" y="7739"/>
                </a:cubicBezTo>
                <a:cubicBezTo>
                  <a:pt x="7749" y="7739"/>
                  <a:pt x="7810" y="7695"/>
                  <a:pt x="7888" y="7590"/>
                </a:cubicBezTo>
                <a:cubicBezTo>
                  <a:pt x="7957" y="7497"/>
                  <a:pt x="7962" y="7454"/>
                  <a:pt x="7962" y="7342"/>
                </a:cubicBezTo>
                <a:cubicBezTo>
                  <a:pt x="7962" y="7221"/>
                  <a:pt x="7951" y="7214"/>
                  <a:pt x="7888" y="7119"/>
                </a:cubicBezTo>
                <a:cubicBezTo>
                  <a:pt x="7850" y="7061"/>
                  <a:pt x="7837" y="7051"/>
                  <a:pt x="7764" y="7045"/>
                </a:cubicBezTo>
                <a:cubicBezTo>
                  <a:pt x="7756" y="7045"/>
                  <a:pt x="7747" y="7045"/>
                  <a:pt x="7739" y="70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3697200"/>
            <a:ext cx="768600" cy="384120"/>
          </a:xfrm>
          <a:custGeom>
            <a:avLst/>
            <a:gdLst/>
            <a:ahLst/>
            <a:rect l="l" t="t" r="r" b="b"/>
            <a:pathLst>
              <a:path w="2134" h="1068">
                <a:moveTo>
                  <a:pt x="16371" y="10616"/>
                </a:moveTo>
                <a:cubicBezTo>
                  <a:pt x="16473" y="10596"/>
                  <a:pt x="16494" y="10517"/>
                  <a:pt x="16446" y="10418"/>
                </a:cubicBezTo>
                <a:cubicBezTo>
                  <a:pt x="16328" y="10176"/>
                  <a:pt x="16038" y="10274"/>
                  <a:pt x="15925" y="10468"/>
                </a:cubicBezTo>
                <a:cubicBezTo>
                  <a:pt x="15917" y="10517"/>
                  <a:pt x="15908" y="10567"/>
                  <a:pt x="15900" y="10616"/>
                </a:cubicBezTo>
                <a:cubicBezTo>
                  <a:pt x="16124" y="10713"/>
                  <a:pt x="16253" y="10709"/>
                  <a:pt x="16421" y="10492"/>
                </a:cubicBezTo>
                <a:cubicBezTo>
                  <a:pt x="16437" y="10459"/>
                  <a:pt x="16454" y="10426"/>
                  <a:pt x="16470" y="10393"/>
                </a:cubicBezTo>
                <a:cubicBezTo>
                  <a:pt x="16470" y="10617"/>
                  <a:pt x="16442" y="10819"/>
                  <a:pt x="16396" y="11038"/>
                </a:cubicBezTo>
                <a:cubicBezTo>
                  <a:pt x="16385" y="11091"/>
                  <a:pt x="16321" y="11187"/>
                  <a:pt x="16371" y="11137"/>
                </a:cubicBezTo>
              </a:path>
              <a:path w="2134" h="1068">
                <a:moveTo>
                  <a:pt x="16867" y="10393"/>
                </a:moveTo>
                <a:cubicBezTo>
                  <a:pt x="16764" y="10538"/>
                  <a:pt x="16628" y="10749"/>
                  <a:pt x="16570" y="10914"/>
                </a:cubicBezTo>
                <a:cubicBezTo>
                  <a:pt x="16548" y="11065"/>
                  <a:pt x="16523" y="11106"/>
                  <a:pt x="16619" y="11162"/>
                </a:cubicBezTo>
                <a:cubicBezTo>
                  <a:pt x="16890" y="11087"/>
                  <a:pt x="17191" y="10959"/>
                  <a:pt x="17090" y="10592"/>
                </a:cubicBezTo>
                <a:cubicBezTo>
                  <a:pt x="17046" y="10431"/>
                  <a:pt x="16892" y="10433"/>
                  <a:pt x="16768" y="10418"/>
                </a:cubicBezTo>
              </a:path>
              <a:path w="2134" h="1068">
                <a:moveTo>
                  <a:pt x="17735" y="10344"/>
                </a:moveTo>
                <a:cubicBezTo>
                  <a:pt x="17525" y="10305"/>
                  <a:pt x="17482" y="10422"/>
                  <a:pt x="17388" y="10592"/>
                </a:cubicBezTo>
                <a:cubicBezTo>
                  <a:pt x="17545" y="10693"/>
                  <a:pt x="17714" y="10684"/>
                  <a:pt x="17810" y="10468"/>
                </a:cubicBezTo>
                <a:cubicBezTo>
                  <a:pt x="17847" y="10386"/>
                  <a:pt x="17816" y="10372"/>
                  <a:pt x="17859" y="10294"/>
                </a:cubicBezTo>
                <a:cubicBezTo>
                  <a:pt x="18115" y="10362"/>
                  <a:pt x="18067" y="10624"/>
                  <a:pt x="17983" y="10864"/>
                </a:cubicBezTo>
                <a:cubicBezTo>
                  <a:pt x="17926" y="11029"/>
                  <a:pt x="17809" y="11175"/>
                  <a:pt x="17760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23000" y="4205160"/>
            <a:ext cx="741240" cy="393840"/>
          </a:xfrm>
          <a:custGeom>
            <a:avLst/>
            <a:gdLst/>
            <a:ahLst/>
            <a:rect l="l" t="t" r="r" b="b"/>
            <a:pathLst>
              <a:path w="2059" h="1092">
                <a:moveTo>
                  <a:pt x="16470" y="11807"/>
                </a:moveTo>
                <a:cubicBezTo>
                  <a:pt x="16492" y="11785"/>
                  <a:pt x="16559" y="11736"/>
                  <a:pt x="16495" y="11733"/>
                </a:cubicBezTo>
                <a:cubicBezTo>
                  <a:pt x="16304" y="11723"/>
                  <a:pt x="16238" y="11831"/>
                  <a:pt x="16173" y="11981"/>
                </a:cubicBezTo>
                <a:cubicBezTo>
                  <a:pt x="16313" y="12102"/>
                  <a:pt x="16600" y="12200"/>
                  <a:pt x="16669" y="12378"/>
                </a:cubicBezTo>
                <a:cubicBezTo>
                  <a:pt x="16669" y="12518"/>
                  <a:pt x="16675" y="12563"/>
                  <a:pt x="16570" y="12601"/>
                </a:cubicBezTo>
                <a:cubicBezTo>
                  <a:pt x="16290" y="12502"/>
                  <a:pt x="16438" y="12262"/>
                  <a:pt x="16495" y="11981"/>
                </a:cubicBezTo>
                <a:cubicBezTo>
                  <a:pt x="16503" y="11940"/>
                  <a:pt x="16512" y="11898"/>
                  <a:pt x="16520" y="11857"/>
                </a:cubicBezTo>
              </a:path>
              <a:path w="2059" h="1092">
                <a:moveTo>
                  <a:pt x="16917" y="11956"/>
                </a:moveTo>
                <a:cubicBezTo>
                  <a:pt x="16917" y="12090"/>
                  <a:pt x="16900" y="11845"/>
                  <a:pt x="16917" y="11807"/>
                </a:cubicBezTo>
                <a:cubicBezTo>
                  <a:pt x="16929" y="11782"/>
                  <a:pt x="17183" y="11685"/>
                  <a:pt x="17214" y="11683"/>
                </a:cubicBezTo>
                <a:cubicBezTo>
                  <a:pt x="17363" y="11672"/>
                  <a:pt x="17339" y="12070"/>
                  <a:pt x="17338" y="12105"/>
                </a:cubicBezTo>
                <a:cubicBezTo>
                  <a:pt x="17331" y="12297"/>
                  <a:pt x="17289" y="12483"/>
                  <a:pt x="17289" y="12675"/>
                </a:cubicBezTo>
              </a:path>
              <a:path w="2059" h="1092">
                <a:moveTo>
                  <a:pt x="17810" y="11857"/>
                </a:moveTo>
                <a:cubicBezTo>
                  <a:pt x="17680" y="11905"/>
                  <a:pt x="17684" y="11991"/>
                  <a:pt x="17735" y="12105"/>
                </a:cubicBezTo>
                <a:cubicBezTo>
                  <a:pt x="17884" y="12104"/>
                  <a:pt x="17937" y="12027"/>
                  <a:pt x="17835" y="11881"/>
                </a:cubicBezTo>
                <a:cubicBezTo>
                  <a:pt x="17818" y="11865"/>
                  <a:pt x="17802" y="11848"/>
                  <a:pt x="17785" y="11832"/>
                </a:cubicBezTo>
                <a:cubicBezTo>
                  <a:pt x="17905" y="11802"/>
                  <a:pt x="18085" y="11735"/>
                  <a:pt x="18182" y="11881"/>
                </a:cubicBezTo>
                <a:cubicBezTo>
                  <a:pt x="18335" y="12111"/>
                  <a:pt x="18124" y="12507"/>
                  <a:pt x="18033" y="12725"/>
                </a:cubicBezTo>
                <a:cubicBezTo>
                  <a:pt x="18009" y="12773"/>
                  <a:pt x="17999" y="12789"/>
                  <a:pt x="18058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11240" y="4857840"/>
            <a:ext cx="704880" cy="303120"/>
          </a:xfrm>
          <a:custGeom>
            <a:avLst/>
            <a:gdLst/>
            <a:ahLst/>
            <a:rect l="l" t="t" r="r" b="b"/>
            <a:pathLst>
              <a:path w="1961" h="844">
                <a:moveTo>
                  <a:pt x="5556" y="13717"/>
                </a:moveTo>
                <a:cubicBezTo>
                  <a:pt x="5573" y="13649"/>
                  <a:pt x="5556" y="13618"/>
                  <a:pt x="5556" y="13543"/>
                </a:cubicBezTo>
                <a:cubicBezTo>
                  <a:pt x="5373" y="13604"/>
                  <a:pt x="5318" y="13865"/>
                  <a:pt x="5308" y="14039"/>
                </a:cubicBezTo>
                <a:cubicBezTo>
                  <a:pt x="5288" y="14378"/>
                  <a:pt x="5592" y="14438"/>
                  <a:pt x="5755" y="14163"/>
                </a:cubicBezTo>
                <a:cubicBezTo>
                  <a:pt x="5848" y="14005"/>
                  <a:pt x="5791" y="13630"/>
                  <a:pt x="5606" y="13543"/>
                </a:cubicBezTo>
                <a:cubicBezTo>
                  <a:pt x="5532" y="13543"/>
                  <a:pt x="5499" y="13518"/>
                  <a:pt x="5507" y="13568"/>
                </a:cubicBezTo>
              </a:path>
              <a:path w="1961" h="844">
                <a:moveTo>
                  <a:pt x="6102" y="14163"/>
                </a:moveTo>
                <a:cubicBezTo>
                  <a:pt x="6022" y="14141"/>
                  <a:pt x="6001" y="14157"/>
                  <a:pt x="5978" y="14238"/>
                </a:cubicBezTo>
                <a:cubicBezTo>
                  <a:pt x="6035" y="14215"/>
                  <a:pt x="6100" y="14172"/>
                  <a:pt x="6003" y="14163"/>
                </a:cubicBezTo>
                <a:cubicBezTo>
                  <a:pt x="5995" y="14163"/>
                  <a:pt x="5986" y="14163"/>
                  <a:pt x="5978" y="14163"/>
                </a:cubicBezTo>
              </a:path>
              <a:path w="1961" h="844">
                <a:moveTo>
                  <a:pt x="6499" y="13692"/>
                </a:moveTo>
                <a:cubicBezTo>
                  <a:pt x="6499" y="13684"/>
                  <a:pt x="6499" y="13675"/>
                  <a:pt x="6499" y="13667"/>
                </a:cubicBezTo>
                <a:cubicBezTo>
                  <a:pt x="6378" y="13638"/>
                  <a:pt x="6415" y="13660"/>
                  <a:pt x="6375" y="13816"/>
                </a:cubicBezTo>
                <a:cubicBezTo>
                  <a:pt x="6318" y="14041"/>
                  <a:pt x="6324" y="14096"/>
                  <a:pt x="6424" y="14288"/>
                </a:cubicBezTo>
                <a:cubicBezTo>
                  <a:pt x="6599" y="14182"/>
                  <a:pt x="6809" y="14028"/>
                  <a:pt x="6648" y="13791"/>
                </a:cubicBezTo>
                <a:cubicBezTo>
                  <a:pt x="6600" y="13721"/>
                  <a:pt x="6497" y="13683"/>
                  <a:pt x="6424" y="13667"/>
                </a:cubicBezTo>
              </a:path>
              <a:path w="1961" h="844">
                <a:moveTo>
                  <a:pt x="7144" y="13568"/>
                </a:moveTo>
                <a:cubicBezTo>
                  <a:pt x="6979" y="13553"/>
                  <a:pt x="6922" y="13636"/>
                  <a:pt x="6821" y="13767"/>
                </a:cubicBezTo>
                <a:cubicBezTo>
                  <a:pt x="6932" y="13877"/>
                  <a:pt x="7224" y="13979"/>
                  <a:pt x="7268" y="14139"/>
                </a:cubicBezTo>
                <a:cubicBezTo>
                  <a:pt x="7260" y="14172"/>
                  <a:pt x="7251" y="14205"/>
                  <a:pt x="7243" y="14238"/>
                </a:cubicBezTo>
                <a:cubicBezTo>
                  <a:pt x="7118" y="14248"/>
                  <a:pt x="6966" y="14213"/>
                  <a:pt x="7045" y="14039"/>
                </a:cubicBezTo>
                <a:cubicBezTo>
                  <a:pt x="7117" y="13881"/>
                  <a:pt x="7307" y="13763"/>
                  <a:pt x="7268" y="13568"/>
                </a:cubicBezTo>
                <a:cubicBezTo>
                  <a:pt x="7243" y="13445"/>
                  <a:pt x="7056" y="13491"/>
                  <a:pt x="7094" y="13543"/>
                </a:cubicBezTo>
                <a:cubicBezTo>
                  <a:pt x="7111" y="13551"/>
                  <a:pt x="7127" y="13560"/>
                  <a:pt x="7144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29160" y="5099040"/>
            <a:ext cx="642960" cy="231840"/>
          </a:xfrm>
          <a:custGeom>
            <a:avLst/>
            <a:gdLst/>
            <a:ahLst/>
            <a:rect l="l" t="t" r="r" b="b"/>
            <a:pathLst>
              <a:path w="1787" h="646">
                <a:moveTo>
                  <a:pt x="16842" y="14163"/>
                </a:moveTo>
                <a:cubicBezTo>
                  <a:pt x="16813" y="14193"/>
                  <a:pt x="16802" y="14208"/>
                  <a:pt x="16793" y="14238"/>
                </a:cubicBezTo>
                <a:cubicBezTo>
                  <a:pt x="16806" y="14235"/>
                  <a:pt x="16899" y="14195"/>
                  <a:pt x="16867" y="14163"/>
                </a:cubicBezTo>
                <a:cubicBezTo>
                  <a:pt x="16820" y="14116"/>
                  <a:pt x="16818" y="14266"/>
                  <a:pt x="16818" y="14188"/>
                </a:cubicBezTo>
              </a:path>
              <a:path w="1787" h="646">
                <a:moveTo>
                  <a:pt x="16818" y="14263"/>
                </a:moveTo>
                <a:cubicBezTo>
                  <a:pt x="16804" y="14388"/>
                  <a:pt x="16777" y="14478"/>
                  <a:pt x="16669" y="14560"/>
                </a:cubicBezTo>
                <a:cubicBezTo>
                  <a:pt x="16548" y="14652"/>
                  <a:pt x="16353" y="14737"/>
                  <a:pt x="16197" y="14734"/>
                </a:cubicBezTo>
                <a:cubicBezTo>
                  <a:pt x="16087" y="14732"/>
                  <a:pt x="15979" y="14738"/>
                  <a:pt x="15949" y="14635"/>
                </a:cubicBezTo>
                <a:cubicBezTo>
                  <a:pt x="15934" y="14584"/>
                  <a:pt x="15928" y="14487"/>
                  <a:pt x="15925" y="14436"/>
                </a:cubicBezTo>
                <a:cubicBezTo>
                  <a:pt x="15923" y="14395"/>
                  <a:pt x="15925" y="14353"/>
                  <a:pt x="15925" y="14312"/>
                </a:cubicBezTo>
                <a:cubicBezTo>
                  <a:pt x="15925" y="14419"/>
                  <a:pt x="15944" y="14535"/>
                  <a:pt x="15900" y="14635"/>
                </a:cubicBezTo>
                <a:cubicBezTo>
                  <a:pt x="15848" y="14751"/>
                  <a:pt x="15676" y="14763"/>
                  <a:pt x="15577" y="14784"/>
                </a:cubicBezTo>
                <a:cubicBezTo>
                  <a:pt x="15464" y="14808"/>
                  <a:pt x="15364" y="14825"/>
                  <a:pt x="15255" y="14784"/>
                </a:cubicBezTo>
                <a:cubicBezTo>
                  <a:pt x="15174" y="14753"/>
                  <a:pt x="15132" y="14611"/>
                  <a:pt x="15106" y="14536"/>
                </a:cubicBezTo>
                <a:cubicBezTo>
                  <a:pt x="15071" y="14435"/>
                  <a:pt x="15094" y="14368"/>
                  <a:pt x="15106" y="14288"/>
                </a:cubicBezTo>
                <a:cubicBezTo>
                  <a:pt x="15114" y="14236"/>
                  <a:pt x="15093" y="14233"/>
                  <a:pt x="15081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43200" y="3027240"/>
            <a:ext cx="81000" cy="71640"/>
          </a:xfrm>
          <a:custGeom>
            <a:avLst/>
            <a:gdLst/>
            <a:ahLst/>
            <a:rect l="l" t="t" r="r" b="b"/>
            <a:pathLst>
              <a:path w="225" h="199">
                <a:moveTo>
                  <a:pt x="10170" y="8409"/>
                </a:moveTo>
                <a:cubicBezTo>
                  <a:pt x="10158" y="8478"/>
                  <a:pt x="10144" y="8543"/>
                  <a:pt x="10120" y="8607"/>
                </a:cubicBezTo>
                <a:cubicBezTo>
                  <a:pt x="10195" y="8607"/>
                  <a:pt x="10251" y="8589"/>
                  <a:pt x="10319" y="8582"/>
                </a:cubicBezTo>
                <a:cubicBezTo>
                  <a:pt x="10327" y="8582"/>
                  <a:pt x="10336" y="8582"/>
                  <a:pt x="10344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24200" y="2982960"/>
            <a:ext cx="17640" cy="187200"/>
          </a:xfrm>
          <a:custGeom>
            <a:avLst/>
            <a:gdLst/>
            <a:ahLst/>
            <a:rect l="l" t="t" r="r" b="b"/>
            <a:pathLst>
              <a:path w="50" h="522">
                <a:moveTo>
                  <a:pt x="10393" y="8285"/>
                </a:moveTo>
                <a:cubicBezTo>
                  <a:pt x="10373" y="8424"/>
                  <a:pt x="10354" y="8565"/>
                  <a:pt x="10344" y="8706"/>
                </a:cubicBezTo>
                <a:cubicBezTo>
                  <a:pt x="10344" y="8764"/>
                  <a:pt x="10344" y="8773"/>
                  <a:pt x="10344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3178080"/>
            <a:ext cx="492120" cy="36720"/>
          </a:xfrm>
          <a:custGeom>
            <a:avLst/>
            <a:gdLst/>
            <a:ahLst/>
            <a:rect l="l" t="t" r="r" b="b"/>
            <a:pathLst>
              <a:path w="1365" h="101">
                <a:moveTo>
                  <a:pt x="9575" y="8930"/>
                </a:moveTo>
                <a:cubicBezTo>
                  <a:pt x="9750" y="8930"/>
                  <a:pt x="9922" y="8899"/>
                  <a:pt x="10096" y="8880"/>
                </a:cubicBezTo>
                <a:cubicBezTo>
                  <a:pt x="10326" y="8855"/>
                  <a:pt x="10560" y="8837"/>
                  <a:pt x="10790" y="8830"/>
                </a:cubicBezTo>
                <a:cubicBezTo>
                  <a:pt x="10840" y="8828"/>
                  <a:pt x="10889" y="8830"/>
                  <a:pt x="10939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63920" y="3268800"/>
            <a:ext cx="9360" cy="142560"/>
          </a:xfrm>
          <a:custGeom>
            <a:avLst/>
            <a:gdLst/>
            <a:ahLst/>
            <a:rect l="l" t="t" r="r" b="b"/>
            <a:pathLst>
              <a:path w="26" h="397">
                <a:moveTo>
                  <a:pt x="9649" y="9079"/>
                </a:moveTo>
                <a:cubicBezTo>
                  <a:pt x="9649" y="9182"/>
                  <a:pt x="9633" y="9275"/>
                  <a:pt x="9624" y="9376"/>
                </a:cubicBezTo>
                <a:cubicBezTo>
                  <a:pt x="9624" y="9434"/>
                  <a:pt x="9624" y="9442"/>
                  <a:pt x="9624" y="94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54280" y="3259080"/>
            <a:ext cx="133560" cy="125640"/>
          </a:xfrm>
          <a:custGeom>
            <a:avLst/>
            <a:gdLst/>
            <a:ahLst/>
            <a:rect l="l" t="t" r="r" b="b"/>
            <a:pathLst>
              <a:path w="373" h="348">
                <a:moveTo>
                  <a:pt x="10220" y="9054"/>
                </a:moveTo>
                <a:cubicBezTo>
                  <a:pt x="10137" y="9054"/>
                  <a:pt x="10093" y="9047"/>
                  <a:pt x="10021" y="9103"/>
                </a:cubicBezTo>
                <a:cubicBezTo>
                  <a:pt x="9933" y="9172"/>
                  <a:pt x="9890" y="9270"/>
                  <a:pt x="9872" y="9376"/>
                </a:cubicBezTo>
                <a:cubicBezTo>
                  <a:pt x="10011" y="9408"/>
                  <a:pt x="10126" y="9412"/>
                  <a:pt x="10220" y="9277"/>
                </a:cubicBezTo>
                <a:cubicBezTo>
                  <a:pt x="10285" y="9183"/>
                  <a:pt x="10225" y="9170"/>
                  <a:pt x="10195" y="9103"/>
                </a:cubicBezTo>
                <a:cubicBezTo>
                  <a:pt x="10180" y="9071"/>
                  <a:pt x="10189" y="9079"/>
                  <a:pt x="10145" y="90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14840" y="3251160"/>
            <a:ext cx="160200" cy="142920"/>
          </a:xfrm>
          <a:custGeom>
            <a:avLst/>
            <a:gdLst/>
            <a:ahLst/>
            <a:rect l="l" t="t" r="r" b="b"/>
            <a:pathLst>
              <a:path w="447" h="398">
                <a:moveTo>
                  <a:pt x="10542" y="9079"/>
                </a:moveTo>
                <a:cubicBezTo>
                  <a:pt x="10461" y="9030"/>
                  <a:pt x="10405" y="9089"/>
                  <a:pt x="10368" y="9178"/>
                </a:cubicBezTo>
                <a:cubicBezTo>
                  <a:pt x="10332" y="9263"/>
                  <a:pt x="10326" y="9323"/>
                  <a:pt x="10344" y="9401"/>
                </a:cubicBezTo>
                <a:cubicBezTo>
                  <a:pt x="10466" y="9438"/>
                  <a:pt x="10558" y="9431"/>
                  <a:pt x="10666" y="9351"/>
                </a:cubicBezTo>
                <a:cubicBezTo>
                  <a:pt x="10740" y="9297"/>
                  <a:pt x="10759" y="9214"/>
                  <a:pt x="10765" y="9128"/>
                </a:cubicBezTo>
                <a:cubicBezTo>
                  <a:pt x="10768" y="9080"/>
                  <a:pt x="10656" y="9049"/>
                  <a:pt x="10616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75040" y="3054240"/>
            <a:ext cx="54000" cy="17640"/>
          </a:xfrm>
          <a:custGeom>
            <a:avLst/>
            <a:gdLst/>
            <a:ahLst/>
            <a:rect l="l" t="t" r="r" b="b"/>
            <a:pathLst>
              <a:path w="150" h="51">
                <a:moveTo>
                  <a:pt x="10765" y="8533"/>
                </a:moveTo>
                <a:cubicBezTo>
                  <a:pt x="10765" y="8495"/>
                  <a:pt x="10873" y="8490"/>
                  <a:pt x="10914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6040" y="327672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10988" y="9103"/>
                </a:moveTo>
                <a:cubicBezTo>
                  <a:pt x="10988" y="9111"/>
                  <a:pt x="10988" y="9120"/>
                  <a:pt x="10988" y="9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38760" y="3394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0939" y="9426"/>
                </a:moveTo>
                <a:lnTo>
                  <a:pt x="10939" y="942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tober 11, 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77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Objecti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Students will compare and order decim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Objective:</a:t>
            </a:r>
            <a:br>
              <a:rPr sz="2400"/>
            </a:b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tudents will compare and order dec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&lt; - less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&gt; - greater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= - equal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When you put the following numbers in order from least to greatest, what are your eyes 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ACTUALLY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 doing?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36, 547, 548, 53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37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Objective: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Students will compare and order decim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we order numbers, our eyes move from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left to righ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 we go from the   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largest place values to the smalle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How will this change with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ecim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cc66"/>
                </a:solidFill>
                <a:uFillTx/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Order from least to greatest: 0.416, 0.92, 0.4,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416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4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92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92</a:t>
            </a:r>
            <a:r>
              <a:rPr b="1" lang="en-US" sz="2600" spc="-1" strike="noStrike">
                <a:solidFill>
                  <a:srgbClr val="00cc66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4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4</a:t>
            </a:r>
            <a:r>
              <a:rPr b="1" lang="en-US" sz="2600" spc="-1" strike="noStrike">
                <a:solidFill>
                  <a:srgbClr val="00cc66"/>
                </a:solidFill>
                <a:latin typeface="Arial"/>
              </a:rPr>
              <a:t>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2.5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2.5</a:t>
            </a:r>
            <a:r>
              <a:rPr b="1" lang="en-US" sz="2600" spc="-1" strike="noStrike">
                <a:solidFill>
                  <a:srgbClr val="00cc66"/>
                </a:solidFill>
                <a:latin typeface="Arial"/>
              </a:rPr>
              <a:t>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Objective: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Students will compare and order decim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Skill Practice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rder the following sets from greatest to le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.7, 0.057, 7 , 0.751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.01,  6.1,  0.61,  0.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45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5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37080" y="1108080"/>
            <a:ext cx="1463760" cy="1258920"/>
          </a:xfrm>
          <a:custGeom>
            <a:avLst/>
            <a:gdLst/>
            <a:ahLst/>
            <a:rect l="l" t="t" r="r" b="b"/>
            <a:pathLst>
              <a:path w="4069" h="3498">
                <a:moveTo>
                  <a:pt x="12824" y="5011"/>
                </a:moveTo>
                <a:cubicBezTo>
                  <a:pt x="12714" y="5084"/>
                  <a:pt x="12591" y="5254"/>
                  <a:pt x="12601" y="5407"/>
                </a:cubicBezTo>
                <a:cubicBezTo>
                  <a:pt x="12615" y="5615"/>
                  <a:pt x="12974" y="5547"/>
                  <a:pt x="13072" y="5457"/>
                </a:cubicBezTo>
                <a:cubicBezTo>
                  <a:pt x="13206" y="5334"/>
                  <a:pt x="13166" y="5163"/>
                  <a:pt x="13022" y="5085"/>
                </a:cubicBezTo>
                <a:cubicBezTo>
                  <a:pt x="12997" y="5077"/>
                  <a:pt x="12973" y="5068"/>
                  <a:pt x="12948" y="5060"/>
                </a:cubicBezTo>
              </a:path>
              <a:path w="4069" h="3498">
                <a:moveTo>
                  <a:pt x="13618" y="5011"/>
                </a:moveTo>
                <a:cubicBezTo>
                  <a:pt x="13618" y="5070"/>
                  <a:pt x="13640" y="4929"/>
                  <a:pt x="13667" y="4911"/>
                </a:cubicBezTo>
                <a:cubicBezTo>
                  <a:pt x="13763" y="4846"/>
                  <a:pt x="13932" y="4854"/>
                  <a:pt x="14039" y="4837"/>
                </a:cubicBezTo>
                <a:cubicBezTo>
                  <a:pt x="14047" y="4837"/>
                  <a:pt x="14056" y="4837"/>
                  <a:pt x="14064" y="4837"/>
                </a:cubicBezTo>
                <a:cubicBezTo>
                  <a:pt x="14064" y="4985"/>
                  <a:pt x="14045" y="5138"/>
                  <a:pt x="14015" y="5283"/>
                </a:cubicBezTo>
                <a:cubicBezTo>
                  <a:pt x="13996" y="5341"/>
                  <a:pt x="13987" y="5348"/>
                  <a:pt x="13990" y="5383"/>
                </a:cubicBezTo>
              </a:path>
              <a:path w="4069" h="3498">
                <a:moveTo>
                  <a:pt x="12973" y="5854"/>
                </a:moveTo>
                <a:cubicBezTo>
                  <a:pt x="12820" y="5854"/>
                  <a:pt x="12769" y="6025"/>
                  <a:pt x="12725" y="6152"/>
                </a:cubicBezTo>
                <a:cubicBezTo>
                  <a:pt x="12662" y="6332"/>
                  <a:pt x="12629" y="6653"/>
                  <a:pt x="12923" y="6548"/>
                </a:cubicBezTo>
                <a:cubicBezTo>
                  <a:pt x="13150" y="6467"/>
                  <a:pt x="13277" y="6172"/>
                  <a:pt x="13097" y="5978"/>
                </a:cubicBezTo>
                <a:cubicBezTo>
                  <a:pt x="13022" y="5897"/>
                  <a:pt x="12958" y="5962"/>
                  <a:pt x="12998" y="5904"/>
                </a:cubicBezTo>
              </a:path>
              <a:path w="4069" h="3498">
                <a:moveTo>
                  <a:pt x="13072" y="4316"/>
                </a:moveTo>
                <a:cubicBezTo>
                  <a:pt x="13251" y="4277"/>
                  <a:pt x="13458" y="4273"/>
                  <a:pt x="13643" y="4266"/>
                </a:cubicBezTo>
                <a:cubicBezTo>
                  <a:pt x="13992" y="4254"/>
                  <a:pt x="14336" y="4286"/>
                  <a:pt x="14684" y="4291"/>
                </a:cubicBezTo>
                <a:cubicBezTo>
                  <a:pt x="14947" y="4294"/>
                  <a:pt x="15218" y="4278"/>
                  <a:pt x="15478" y="4242"/>
                </a:cubicBezTo>
                <a:cubicBezTo>
                  <a:pt x="15727" y="4208"/>
                  <a:pt x="15978" y="4153"/>
                  <a:pt x="16222" y="4093"/>
                </a:cubicBezTo>
                <a:cubicBezTo>
                  <a:pt x="16383" y="4054"/>
                  <a:pt x="16463" y="4010"/>
                  <a:pt x="16570" y="3894"/>
                </a:cubicBezTo>
                <a:cubicBezTo>
                  <a:pt x="16639" y="3820"/>
                  <a:pt x="16685" y="3804"/>
                  <a:pt x="16644" y="3696"/>
                </a:cubicBezTo>
                <a:cubicBezTo>
                  <a:pt x="16561" y="3476"/>
                  <a:pt x="16355" y="3345"/>
                  <a:pt x="16148" y="3249"/>
                </a:cubicBezTo>
                <a:cubicBezTo>
                  <a:pt x="15905" y="3137"/>
                  <a:pt x="15695" y="3080"/>
                  <a:pt x="15429" y="3076"/>
                </a:cubicBezTo>
                <a:cubicBezTo>
                  <a:pt x="15120" y="3071"/>
                  <a:pt x="14813" y="3114"/>
                  <a:pt x="14511" y="3175"/>
                </a:cubicBezTo>
                <a:cubicBezTo>
                  <a:pt x="14229" y="3232"/>
                  <a:pt x="13945" y="3270"/>
                  <a:pt x="13667" y="3349"/>
                </a:cubicBezTo>
                <a:cubicBezTo>
                  <a:pt x="13489" y="3400"/>
                  <a:pt x="13347" y="3470"/>
                  <a:pt x="13196" y="3572"/>
                </a:cubicBezTo>
                <a:cubicBezTo>
                  <a:pt x="13104" y="3634"/>
                  <a:pt x="13017" y="3668"/>
                  <a:pt x="12948" y="3746"/>
                </a:cubicBezTo>
                <a:cubicBezTo>
                  <a:pt x="12820" y="3890"/>
                  <a:pt x="12877" y="4077"/>
                  <a:pt x="13022" y="4192"/>
                </a:cubicBezTo>
                <a:cubicBezTo>
                  <a:pt x="13269" y="4388"/>
                  <a:pt x="13606" y="4269"/>
                  <a:pt x="13891" y="4242"/>
                </a:cubicBezTo>
                <a:cubicBezTo>
                  <a:pt x="13907" y="4242"/>
                  <a:pt x="13924" y="4242"/>
                  <a:pt x="13940" y="42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03680" y="1544760"/>
            <a:ext cx="2849400" cy="2197080"/>
          </a:xfrm>
          <a:custGeom>
            <a:avLst/>
            <a:gdLst/>
            <a:ahLst/>
            <a:rect l="l" t="t" r="r" b="b"/>
            <a:pathLst>
              <a:path w="7913" h="6103">
                <a:moveTo>
                  <a:pt x="13345" y="5407"/>
                </a:moveTo>
                <a:cubicBezTo>
                  <a:pt x="13345" y="5415"/>
                  <a:pt x="13345" y="5424"/>
                  <a:pt x="13345" y="5432"/>
                </a:cubicBezTo>
              </a:path>
              <a:path w="7913" h="6103">
                <a:moveTo>
                  <a:pt x="13469" y="6424"/>
                </a:moveTo>
                <a:lnTo>
                  <a:pt x="13469" y="6424"/>
                </a:lnTo>
              </a:path>
              <a:path w="7913" h="6103">
                <a:moveTo>
                  <a:pt x="14039" y="5779"/>
                </a:moveTo>
                <a:cubicBezTo>
                  <a:pt x="13920" y="5846"/>
                  <a:pt x="13784" y="6083"/>
                  <a:pt x="13816" y="6251"/>
                </a:cubicBezTo>
                <a:cubicBezTo>
                  <a:pt x="13862" y="6494"/>
                  <a:pt x="14196" y="6392"/>
                  <a:pt x="14263" y="6226"/>
                </a:cubicBezTo>
                <a:cubicBezTo>
                  <a:pt x="14350" y="6012"/>
                  <a:pt x="14258" y="5944"/>
                  <a:pt x="14114" y="5854"/>
                </a:cubicBezTo>
                <a:cubicBezTo>
                  <a:pt x="14106" y="5846"/>
                  <a:pt x="14097" y="5837"/>
                  <a:pt x="14089" y="5829"/>
                </a:cubicBezTo>
              </a:path>
              <a:path w="7913" h="6103">
                <a:moveTo>
                  <a:pt x="14610" y="5705"/>
                </a:moveTo>
                <a:cubicBezTo>
                  <a:pt x="14517" y="5732"/>
                  <a:pt x="14442" y="5726"/>
                  <a:pt x="14436" y="5829"/>
                </a:cubicBezTo>
                <a:cubicBezTo>
                  <a:pt x="14436" y="5846"/>
                  <a:pt x="14436" y="5862"/>
                  <a:pt x="14436" y="5879"/>
                </a:cubicBezTo>
                <a:cubicBezTo>
                  <a:pt x="14535" y="5879"/>
                  <a:pt x="14653" y="5883"/>
                  <a:pt x="14734" y="5953"/>
                </a:cubicBezTo>
                <a:cubicBezTo>
                  <a:pt x="14839" y="6044"/>
                  <a:pt x="14814" y="6305"/>
                  <a:pt x="14635" y="6300"/>
                </a:cubicBezTo>
                <a:cubicBezTo>
                  <a:pt x="14477" y="6296"/>
                  <a:pt x="14524" y="6164"/>
                  <a:pt x="14536" y="6077"/>
                </a:cubicBezTo>
              </a:path>
              <a:path w="7913" h="6103">
                <a:moveTo>
                  <a:pt x="14908" y="5631"/>
                </a:moveTo>
                <a:cubicBezTo>
                  <a:pt x="15033" y="5615"/>
                  <a:pt x="15154" y="5589"/>
                  <a:pt x="15280" y="5581"/>
                </a:cubicBezTo>
                <a:cubicBezTo>
                  <a:pt x="15274" y="5780"/>
                  <a:pt x="15255" y="5976"/>
                  <a:pt x="15255" y="6176"/>
                </a:cubicBezTo>
              </a:path>
              <a:path w="7913" h="6103">
                <a:moveTo>
                  <a:pt x="12898" y="6871"/>
                </a:moveTo>
                <a:cubicBezTo>
                  <a:pt x="12868" y="6934"/>
                  <a:pt x="12860" y="6965"/>
                  <a:pt x="12874" y="7020"/>
                </a:cubicBezTo>
                <a:cubicBezTo>
                  <a:pt x="12874" y="6972"/>
                  <a:pt x="12871" y="6895"/>
                  <a:pt x="12923" y="6871"/>
                </a:cubicBezTo>
                <a:cubicBezTo>
                  <a:pt x="13026" y="6823"/>
                  <a:pt x="13161" y="6846"/>
                  <a:pt x="13271" y="6846"/>
                </a:cubicBezTo>
                <a:cubicBezTo>
                  <a:pt x="13300" y="7010"/>
                  <a:pt x="13233" y="7198"/>
                  <a:pt x="13196" y="7367"/>
                </a:cubicBezTo>
                <a:cubicBezTo>
                  <a:pt x="13177" y="7441"/>
                  <a:pt x="13143" y="7474"/>
                  <a:pt x="13196" y="7466"/>
                </a:cubicBezTo>
              </a:path>
              <a:path w="7913" h="6103">
                <a:moveTo>
                  <a:pt x="13593" y="7342"/>
                </a:moveTo>
                <a:lnTo>
                  <a:pt x="13593" y="7342"/>
                </a:lnTo>
              </a:path>
              <a:path w="7913" h="6103">
                <a:moveTo>
                  <a:pt x="14436" y="4936"/>
                </a:moveTo>
                <a:cubicBezTo>
                  <a:pt x="14317" y="4912"/>
                  <a:pt x="14292" y="5151"/>
                  <a:pt x="14312" y="5259"/>
                </a:cubicBezTo>
                <a:cubicBezTo>
                  <a:pt x="14329" y="5292"/>
                  <a:pt x="14345" y="5325"/>
                  <a:pt x="14362" y="5358"/>
                </a:cubicBezTo>
                <a:cubicBezTo>
                  <a:pt x="14544" y="5322"/>
                  <a:pt x="14741" y="5241"/>
                  <a:pt x="14610" y="5011"/>
                </a:cubicBezTo>
                <a:cubicBezTo>
                  <a:pt x="14543" y="4943"/>
                  <a:pt x="14529" y="4918"/>
                  <a:pt x="14461" y="4936"/>
                </a:cubicBezTo>
              </a:path>
              <a:path w="7913" h="6103">
                <a:moveTo>
                  <a:pt x="15131" y="4961"/>
                </a:moveTo>
                <a:cubicBezTo>
                  <a:pt x="15000" y="5116"/>
                  <a:pt x="14968" y="5205"/>
                  <a:pt x="15106" y="5358"/>
                </a:cubicBezTo>
                <a:cubicBezTo>
                  <a:pt x="15228" y="5309"/>
                  <a:pt x="15554" y="5138"/>
                  <a:pt x="15280" y="5011"/>
                </a:cubicBezTo>
                <a:cubicBezTo>
                  <a:pt x="15230" y="5003"/>
                  <a:pt x="15181" y="4994"/>
                  <a:pt x="15131" y="4986"/>
                </a:cubicBezTo>
              </a:path>
              <a:path w="7913" h="6103">
                <a:moveTo>
                  <a:pt x="13866" y="4291"/>
                </a:moveTo>
                <a:cubicBezTo>
                  <a:pt x="13866" y="4623"/>
                  <a:pt x="13862" y="4957"/>
                  <a:pt x="13891" y="5283"/>
                </a:cubicBezTo>
                <a:cubicBezTo>
                  <a:pt x="13901" y="5401"/>
                  <a:pt x="13895" y="5515"/>
                  <a:pt x="13915" y="5631"/>
                </a:cubicBezTo>
                <a:cubicBezTo>
                  <a:pt x="13938" y="5765"/>
                  <a:pt x="13944" y="5896"/>
                  <a:pt x="13965" y="6028"/>
                </a:cubicBezTo>
                <a:cubicBezTo>
                  <a:pt x="13990" y="6188"/>
                  <a:pt x="14052" y="6337"/>
                  <a:pt x="14064" y="6499"/>
                </a:cubicBezTo>
                <a:cubicBezTo>
                  <a:pt x="14072" y="6610"/>
                  <a:pt x="14096" y="6769"/>
                  <a:pt x="14089" y="6871"/>
                </a:cubicBezTo>
                <a:cubicBezTo>
                  <a:pt x="14080" y="6993"/>
                  <a:pt x="14064" y="7115"/>
                  <a:pt x="14064" y="7243"/>
                </a:cubicBezTo>
                <a:cubicBezTo>
                  <a:pt x="14064" y="7485"/>
                  <a:pt x="14072" y="7724"/>
                  <a:pt x="14089" y="7962"/>
                </a:cubicBezTo>
                <a:cubicBezTo>
                  <a:pt x="14097" y="8074"/>
                  <a:pt x="14088" y="8177"/>
                  <a:pt x="14114" y="8285"/>
                </a:cubicBezTo>
                <a:cubicBezTo>
                  <a:pt x="14125" y="8332"/>
                  <a:pt x="14156" y="8386"/>
                  <a:pt x="14163" y="8434"/>
                </a:cubicBezTo>
                <a:cubicBezTo>
                  <a:pt x="14169" y="8478"/>
                  <a:pt x="14174" y="8466"/>
                  <a:pt x="14188" y="8508"/>
                </a:cubicBezTo>
              </a:path>
              <a:path w="7913" h="6103">
                <a:moveTo>
                  <a:pt x="12328" y="8310"/>
                </a:moveTo>
                <a:cubicBezTo>
                  <a:pt x="12541" y="8226"/>
                  <a:pt x="12770" y="8203"/>
                  <a:pt x="12998" y="8161"/>
                </a:cubicBezTo>
                <a:cubicBezTo>
                  <a:pt x="13338" y="8098"/>
                  <a:pt x="13677" y="8066"/>
                  <a:pt x="14015" y="7987"/>
                </a:cubicBezTo>
                <a:cubicBezTo>
                  <a:pt x="14237" y="7935"/>
                  <a:pt x="14460" y="7907"/>
                  <a:pt x="14684" y="7863"/>
                </a:cubicBezTo>
                <a:cubicBezTo>
                  <a:pt x="14849" y="7830"/>
                  <a:pt x="15015" y="7837"/>
                  <a:pt x="15180" y="7813"/>
                </a:cubicBezTo>
                <a:cubicBezTo>
                  <a:pt x="15297" y="7796"/>
                  <a:pt x="15412" y="7778"/>
                  <a:pt x="15528" y="7764"/>
                </a:cubicBezTo>
                <a:cubicBezTo>
                  <a:pt x="15536" y="7764"/>
                  <a:pt x="15545" y="7764"/>
                  <a:pt x="15553" y="7764"/>
                </a:cubicBezTo>
              </a:path>
              <a:path w="7913" h="6103">
                <a:moveTo>
                  <a:pt x="7987" y="10096"/>
                </a:moveTo>
                <a:cubicBezTo>
                  <a:pt x="7938" y="10268"/>
                  <a:pt x="7933" y="10307"/>
                  <a:pt x="7789" y="10393"/>
                </a:cubicBezTo>
              </a:path>
              <a:path w="7913" h="6103">
                <a:moveTo>
                  <a:pt x="12254" y="5358"/>
                </a:moveTo>
                <a:cubicBezTo>
                  <a:pt x="12425" y="5310"/>
                  <a:pt x="12592" y="5270"/>
                  <a:pt x="12774" y="5259"/>
                </a:cubicBezTo>
                <a:cubicBezTo>
                  <a:pt x="12989" y="5246"/>
                  <a:pt x="13205" y="5231"/>
                  <a:pt x="13419" y="5209"/>
                </a:cubicBezTo>
                <a:cubicBezTo>
                  <a:pt x="13627" y="5188"/>
                  <a:pt x="13829" y="5184"/>
                  <a:pt x="14039" y="5184"/>
                </a:cubicBezTo>
                <a:cubicBezTo>
                  <a:pt x="14216" y="5184"/>
                  <a:pt x="14385" y="5170"/>
                  <a:pt x="14560" y="5159"/>
                </a:cubicBezTo>
                <a:cubicBezTo>
                  <a:pt x="14750" y="5147"/>
                  <a:pt x="14942" y="5156"/>
                  <a:pt x="15131" y="5135"/>
                </a:cubicBezTo>
                <a:cubicBezTo>
                  <a:pt x="15233" y="5124"/>
                  <a:pt x="15363" y="5099"/>
                  <a:pt x="15453" y="5085"/>
                </a:cubicBezTo>
                <a:cubicBezTo>
                  <a:pt x="15461" y="5085"/>
                  <a:pt x="15470" y="5085"/>
                  <a:pt x="15478" y="5085"/>
                </a:cubicBezTo>
              </a:path>
              <a:path w="7913" h="6103">
                <a:moveTo>
                  <a:pt x="8731" y="9475"/>
                </a:moveTo>
                <a:cubicBezTo>
                  <a:pt x="8695" y="9372"/>
                  <a:pt x="8586" y="9569"/>
                  <a:pt x="8558" y="9674"/>
                </a:cubicBezTo>
                <a:cubicBezTo>
                  <a:pt x="8496" y="9902"/>
                  <a:pt x="8570" y="10167"/>
                  <a:pt x="8855" y="9996"/>
                </a:cubicBezTo>
                <a:cubicBezTo>
                  <a:pt x="9056" y="9875"/>
                  <a:pt x="9079" y="9615"/>
                  <a:pt x="8930" y="9451"/>
                </a:cubicBezTo>
                <a:cubicBezTo>
                  <a:pt x="8854" y="9394"/>
                  <a:pt x="8842" y="9391"/>
                  <a:pt x="8806" y="9351"/>
                </a:cubicBezTo>
              </a:path>
              <a:path w="7913" h="6103">
                <a:moveTo>
                  <a:pt x="9327" y="9872"/>
                </a:moveTo>
                <a:cubicBezTo>
                  <a:pt x="9305" y="9916"/>
                  <a:pt x="9302" y="9928"/>
                  <a:pt x="9277" y="9947"/>
                </a:cubicBezTo>
                <a:cubicBezTo>
                  <a:pt x="9288" y="9913"/>
                  <a:pt x="9325" y="9913"/>
                  <a:pt x="9277" y="9897"/>
                </a:cubicBezTo>
              </a:path>
              <a:path w="7913" h="6103">
                <a:moveTo>
                  <a:pt x="9798" y="9376"/>
                </a:moveTo>
                <a:cubicBezTo>
                  <a:pt x="9640" y="9429"/>
                  <a:pt x="9585" y="9640"/>
                  <a:pt x="9599" y="9798"/>
                </a:cubicBezTo>
                <a:cubicBezTo>
                  <a:pt x="9616" y="9823"/>
                  <a:pt x="9632" y="9847"/>
                  <a:pt x="9649" y="9872"/>
                </a:cubicBezTo>
                <a:cubicBezTo>
                  <a:pt x="9817" y="9850"/>
                  <a:pt x="10107" y="9786"/>
                  <a:pt x="9971" y="9525"/>
                </a:cubicBezTo>
                <a:cubicBezTo>
                  <a:pt x="9867" y="9421"/>
                  <a:pt x="9850" y="9396"/>
                  <a:pt x="9773" y="9351"/>
                </a:cubicBezTo>
              </a:path>
              <a:path w="7913" h="6103">
                <a:moveTo>
                  <a:pt x="10418" y="9277"/>
                </a:moveTo>
                <a:cubicBezTo>
                  <a:pt x="10333" y="9294"/>
                  <a:pt x="10286" y="9311"/>
                  <a:pt x="10244" y="9376"/>
                </a:cubicBezTo>
                <a:cubicBezTo>
                  <a:pt x="10236" y="9384"/>
                  <a:pt x="10228" y="9393"/>
                  <a:pt x="10220" y="9401"/>
                </a:cubicBezTo>
                <a:cubicBezTo>
                  <a:pt x="10294" y="9476"/>
                  <a:pt x="10429" y="9412"/>
                  <a:pt x="10517" y="9500"/>
                </a:cubicBezTo>
                <a:cubicBezTo>
                  <a:pt x="10639" y="9621"/>
                  <a:pt x="10532" y="9829"/>
                  <a:pt x="10368" y="9823"/>
                </a:cubicBezTo>
                <a:cubicBezTo>
                  <a:pt x="10343" y="9806"/>
                  <a:pt x="10319" y="9790"/>
                  <a:pt x="10294" y="9773"/>
                </a:cubicBezTo>
              </a:path>
              <a:path w="7913" h="6103">
                <a:moveTo>
                  <a:pt x="10641" y="9252"/>
                </a:moveTo>
                <a:cubicBezTo>
                  <a:pt x="10742" y="9201"/>
                  <a:pt x="10895" y="9206"/>
                  <a:pt x="11013" y="9178"/>
                </a:cubicBezTo>
                <a:cubicBezTo>
                  <a:pt x="11038" y="9170"/>
                  <a:pt x="11063" y="9161"/>
                  <a:pt x="11088" y="9153"/>
                </a:cubicBezTo>
                <a:cubicBezTo>
                  <a:pt x="11107" y="9312"/>
                  <a:pt x="11112" y="9463"/>
                  <a:pt x="11112" y="9624"/>
                </a:cubicBezTo>
                <a:cubicBezTo>
                  <a:pt x="11112" y="9674"/>
                  <a:pt x="11112" y="9691"/>
                  <a:pt x="11112" y="9624"/>
                </a:cubicBezTo>
              </a:path>
              <a:path w="7913" h="6103">
                <a:moveTo>
                  <a:pt x="12477" y="6300"/>
                </a:moveTo>
                <a:cubicBezTo>
                  <a:pt x="12685" y="6149"/>
                  <a:pt x="12968" y="6135"/>
                  <a:pt x="13221" y="6102"/>
                </a:cubicBezTo>
                <a:cubicBezTo>
                  <a:pt x="13997" y="6001"/>
                  <a:pt x="14779" y="5947"/>
                  <a:pt x="15553" y="5829"/>
                </a:cubicBezTo>
                <a:cubicBezTo>
                  <a:pt x="15642" y="5815"/>
                  <a:pt x="15677" y="5785"/>
                  <a:pt x="15701" y="5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27720" y="1724040"/>
            <a:ext cx="1125360" cy="1374840"/>
          </a:xfrm>
          <a:custGeom>
            <a:avLst/>
            <a:gdLst/>
            <a:ahLst/>
            <a:rect l="l" t="t" r="r" b="b"/>
            <a:pathLst>
              <a:path w="3126" h="3821">
                <a:moveTo>
                  <a:pt x="14213" y="6796"/>
                </a:moveTo>
                <a:cubicBezTo>
                  <a:pt x="14085" y="6868"/>
                  <a:pt x="14060" y="6989"/>
                  <a:pt x="14039" y="7144"/>
                </a:cubicBezTo>
                <a:cubicBezTo>
                  <a:pt x="14197" y="7120"/>
                  <a:pt x="14419" y="7073"/>
                  <a:pt x="14312" y="6846"/>
                </a:cubicBezTo>
                <a:cubicBezTo>
                  <a:pt x="14257" y="6791"/>
                  <a:pt x="14259" y="6766"/>
                  <a:pt x="14213" y="6772"/>
                </a:cubicBezTo>
              </a:path>
              <a:path w="3126" h="3821">
                <a:moveTo>
                  <a:pt x="14784" y="6697"/>
                </a:moveTo>
                <a:cubicBezTo>
                  <a:pt x="14670" y="6804"/>
                  <a:pt x="14617" y="6873"/>
                  <a:pt x="14560" y="7020"/>
                </a:cubicBezTo>
                <a:cubicBezTo>
                  <a:pt x="14711" y="7028"/>
                  <a:pt x="14970" y="7022"/>
                  <a:pt x="14957" y="6796"/>
                </a:cubicBezTo>
                <a:cubicBezTo>
                  <a:pt x="14911" y="6726"/>
                  <a:pt x="14899" y="6701"/>
                  <a:pt x="14833" y="6722"/>
                </a:cubicBezTo>
              </a:path>
              <a:path w="3126" h="3821">
                <a:moveTo>
                  <a:pt x="15429" y="6672"/>
                </a:moveTo>
                <a:cubicBezTo>
                  <a:pt x="15272" y="6737"/>
                  <a:pt x="15303" y="6767"/>
                  <a:pt x="15280" y="6945"/>
                </a:cubicBezTo>
                <a:cubicBezTo>
                  <a:pt x="15399" y="6998"/>
                  <a:pt x="15790" y="7030"/>
                  <a:pt x="15701" y="6747"/>
                </a:cubicBezTo>
                <a:cubicBezTo>
                  <a:pt x="15663" y="6626"/>
                  <a:pt x="15444" y="6653"/>
                  <a:pt x="15354" y="6648"/>
                </a:cubicBezTo>
              </a:path>
              <a:path w="3126" h="3821">
                <a:moveTo>
                  <a:pt x="12973" y="4787"/>
                </a:moveTo>
                <a:cubicBezTo>
                  <a:pt x="12954" y="5021"/>
                  <a:pt x="12958" y="5269"/>
                  <a:pt x="12973" y="5507"/>
                </a:cubicBezTo>
                <a:cubicBezTo>
                  <a:pt x="12992" y="5814"/>
                  <a:pt x="12998" y="6116"/>
                  <a:pt x="12998" y="6424"/>
                </a:cubicBezTo>
                <a:cubicBezTo>
                  <a:pt x="12998" y="6680"/>
                  <a:pt x="13012" y="6940"/>
                  <a:pt x="13047" y="7193"/>
                </a:cubicBezTo>
                <a:cubicBezTo>
                  <a:pt x="13079" y="7426"/>
                  <a:pt x="13054" y="7654"/>
                  <a:pt x="13072" y="7888"/>
                </a:cubicBezTo>
                <a:cubicBezTo>
                  <a:pt x="13089" y="8111"/>
                  <a:pt x="13123" y="8336"/>
                  <a:pt x="13146" y="8558"/>
                </a:cubicBezTo>
                <a:cubicBezTo>
                  <a:pt x="13146" y="8599"/>
                  <a:pt x="13146" y="8623"/>
                  <a:pt x="13146" y="8582"/>
                </a:cubicBezTo>
              </a:path>
              <a:path w="3126" h="3821">
                <a:moveTo>
                  <a:pt x="12576" y="7218"/>
                </a:moveTo>
                <a:cubicBezTo>
                  <a:pt x="12811" y="7127"/>
                  <a:pt x="13020" y="7136"/>
                  <a:pt x="13271" y="7119"/>
                </a:cubicBezTo>
                <a:cubicBezTo>
                  <a:pt x="13727" y="7088"/>
                  <a:pt x="14180" y="6997"/>
                  <a:pt x="14635" y="6970"/>
                </a:cubicBezTo>
                <a:cubicBezTo>
                  <a:pt x="14846" y="6957"/>
                  <a:pt x="15045" y="6931"/>
                  <a:pt x="15255" y="6896"/>
                </a:cubicBezTo>
                <a:cubicBezTo>
                  <a:pt x="15388" y="6874"/>
                  <a:pt x="15786" y="6865"/>
                  <a:pt x="15652" y="6846"/>
                </a:cubicBezTo>
                <a:cubicBezTo>
                  <a:pt x="15586" y="6837"/>
                  <a:pt x="15569" y="6850"/>
                  <a:pt x="15503" y="68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70280" y="2759040"/>
            <a:ext cx="687600" cy="312840"/>
          </a:xfrm>
          <a:custGeom>
            <a:avLst/>
            <a:gdLst/>
            <a:ahLst/>
            <a:rect l="l" t="t" r="r" b="b"/>
            <a:pathLst>
              <a:path w="1911" h="869">
                <a:moveTo>
                  <a:pt x="13047" y="7987"/>
                </a:moveTo>
                <a:cubicBezTo>
                  <a:pt x="13075" y="7902"/>
                  <a:pt x="13055" y="8038"/>
                  <a:pt x="13047" y="8062"/>
                </a:cubicBezTo>
                <a:cubicBezTo>
                  <a:pt x="13009" y="8178"/>
                  <a:pt x="12874" y="8508"/>
                  <a:pt x="13097" y="8533"/>
                </a:cubicBezTo>
                <a:cubicBezTo>
                  <a:pt x="13223" y="8547"/>
                  <a:pt x="13429" y="8391"/>
                  <a:pt x="13444" y="8260"/>
                </a:cubicBezTo>
                <a:cubicBezTo>
                  <a:pt x="13457" y="8142"/>
                  <a:pt x="13312" y="7988"/>
                  <a:pt x="13221" y="7938"/>
                </a:cubicBezTo>
                <a:cubicBezTo>
                  <a:pt x="13196" y="7930"/>
                  <a:pt x="13171" y="7921"/>
                  <a:pt x="13146" y="7913"/>
                </a:cubicBezTo>
              </a:path>
              <a:path w="1911" h="869">
                <a:moveTo>
                  <a:pt x="13643" y="8310"/>
                </a:moveTo>
                <a:cubicBezTo>
                  <a:pt x="13643" y="8251"/>
                  <a:pt x="13623" y="8377"/>
                  <a:pt x="13618" y="8409"/>
                </a:cubicBezTo>
                <a:cubicBezTo>
                  <a:pt x="13713" y="8349"/>
                  <a:pt x="13721" y="8354"/>
                  <a:pt x="13667" y="8260"/>
                </a:cubicBezTo>
              </a:path>
              <a:path w="1911" h="869">
                <a:moveTo>
                  <a:pt x="13940" y="7938"/>
                </a:moveTo>
                <a:cubicBezTo>
                  <a:pt x="13940" y="7954"/>
                  <a:pt x="13940" y="7971"/>
                  <a:pt x="13940" y="7987"/>
                </a:cubicBezTo>
                <a:cubicBezTo>
                  <a:pt x="13958" y="7895"/>
                  <a:pt x="14019" y="7834"/>
                  <a:pt x="14114" y="7813"/>
                </a:cubicBezTo>
                <a:cubicBezTo>
                  <a:pt x="14187" y="7797"/>
                  <a:pt x="14223" y="7807"/>
                  <a:pt x="14288" y="7764"/>
                </a:cubicBezTo>
                <a:cubicBezTo>
                  <a:pt x="14288" y="7953"/>
                  <a:pt x="14261" y="8124"/>
                  <a:pt x="14238" y="8310"/>
                </a:cubicBezTo>
                <a:cubicBezTo>
                  <a:pt x="14227" y="8398"/>
                  <a:pt x="14241" y="8339"/>
                  <a:pt x="14263" y="8310"/>
                </a:cubicBezTo>
              </a:path>
              <a:path w="1911" h="869">
                <a:moveTo>
                  <a:pt x="14808" y="7665"/>
                </a:moveTo>
                <a:cubicBezTo>
                  <a:pt x="14746" y="7690"/>
                  <a:pt x="14684" y="7743"/>
                  <a:pt x="14610" y="7764"/>
                </a:cubicBezTo>
                <a:cubicBezTo>
                  <a:pt x="14528" y="7788"/>
                  <a:pt x="14538" y="7848"/>
                  <a:pt x="14511" y="7938"/>
                </a:cubicBezTo>
                <a:cubicBezTo>
                  <a:pt x="14605" y="7938"/>
                  <a:pt x="14691" y="7849"/>
                  <a:pt x="14784" y="7888"/>
                </a:cubicBezTo>
                <a:cubicBezTo>
                  <a:pt x="14999" y="7977"/>
                  <a:pt x="14828" y="8258"/>
                  <a:pt x="14709" y="8334"/>
                </a:cubicBezTo>
                <a:cubicBezTo>
                  <a:pt x="14458" y="8495"/>
                  <a:pt x="14518" y="8298"/>
                  <a:pt x="14536" y="8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64080" y="2768760"/>
            <a:ext cx="28800" cy="204480"/>
          </a:xfrm>
          <a:custGeom>
            <a:avLst/>
            <a:gdLst/>
            <a:ahLst/>
            <a:rect l="l" t="t" r="r" b="b"/>
            <a:pathLst>
              <a:path w="76" h="572">
                <a:moveTo>
                  <a:pt x="15180" y="7689"/>
                </a:moveTo>
                <a:cubicBezTo>
                  <a:pt x="15225" y="7868"/>
                  <a:pt x="15244" y="8047"/>
                  <a:pt x="15255" y="8235"/>
                </a:cubicBezTo>
                <a:cubicBezTo>
                  <a:pt x="15255" y="8243"/>
                  <a:pt x="15255" y="8252"/>
                  <a:pt x="15255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1120" y="1919160"/>
            <a:ext cx="3911760" cy="2054520"/>
          </a:xfrm>
          <a:custGeom>
            <a:avLst/>
            <a:gdLst/>
            <a:ahLst/>
            <a:rect l="l" t="t" r="r" b="b"/>
            <a:pathLst>
              <a:path w="10865" h="5706">
                <a:moveTo>
                  <a:pt x="7243" y="5383"/>
                </a:moveTo>
                <a:cubicBezTo>
                  <a:pt x="7230" y="5363"/>
                  <a:pt x="7158" y="5346"/>
                  <a:pt x="7144" y="5383"/>
                </a:cubicBezTo>
                <a:cubicBezTo>
                  <a:pt x="7144" y="5399"/>
                  <a:pt x="7144" y="5416"/>
                  <a:pt x="7144" y="5432"/>
                </a:cubicBezTo>
                <a:cubicBezTo>
                  <a:pt x="7213" y="5418"/>
                  <a:pt x="7229" y="5402"/>
                  <a:pt x="7243" y="5333"/>
                </a:cubicBezTo>
                <a:cubicBezTo>
                  <a:pt x="7194" y="5333"/>
                  <a:pt x="7156" y="5367"/>
                  <a:pt x="7218" y="5383"/>
                </a:cubicBezTo>
                <a:cubicBezTo>
                  <a:pt x="7264" y="5395"/>
                  <a:pt x="7241" y="5366"/>
                  <a:pt x="7218" y="5358"/>
                </a:cubicBezTo>
              </a:path>
              <a:path w="10865" h="5706">
                <a:moveTo>
                  <a:pt x="1885" y="11038"/>
                </a:moveTo>
                <a:cubicBezTo>
                  <a:pt x="1983" y="11012"/>
                  <a:pt x="2101" y="10961"/>
                  <a:pt x="2208" y="10939"/>
                </a:cubicBezTo>
                <a:cubicBezTo>
                  <a:pt x="2524" y="10873"/>
                  <a:pt x="2829" y="10857"/>
                  <a:pt x="3150" y="10840"/>
                </a:cubicBezTo>
                <a:cubicBezTo>
                  <a:pt x="3664" y="10813"/>
                  <a:pt x="4174" y="10757"/>
                  <a:pt x="4688" y="10740"/>
                </a:cubicBezTo>
                <a:cubicBezTo>
                  <a:pt x="5006" y="10729"/>
                  <a:pt x="5291" y="10722"/>
                  <a:pt x="5606" y="10666"/>
                </a:cubicBezTo>
                <a:cubicBezTo>
                  <a:pt x="5966" y="10603"/>
                  <a:pt x="6334" y="10539"/>
                  <a:pt x="6697" y="10492"/>
                </a:cubicBezTo>
                <a:cubicBezTo>
                  <a:pt x="7089" y="10441"/>
                  <a:pt x="7494" y="10409"/>
                  <a:pt x="7888" y="10393"/>
                </a:cubicBezTo>
                <a:cubicBezTo>
                  <a:pt x="8246" y="10379"/>
                  <a:pt x="8599" y="10404"/>
                  <a:pt x="8954" y="10393"/>
                </a:cubicBezTo>
                <a:cubicBezTo>
                  <a:pt x="9208" y="10385"/>
                  <a:pt x="9470" y="10341"/>
                  <a:pt x="9723" y="10319"/>
                </a:cubicBezTo>
                <a:cubicBezTo>
                  <a:pt x="10058" y="10289"/>
                  <a:pt x="10408" y="10249"/>
                  <a:pt x="10740" y="10195"/>
                </a:cubicBezTo>
                <a:cubicBezTo>
                  <a:pt x="11014" y="10151"/>
                  <a:pt x="11314" y="10082"/>
                  <a:pt x="11559" y="9947"/>
                </a:cubicBezTo>
                <a:cubicBezTo>
                  <a:pt x="11694" y="9873"/>
                  <a:pt x="11958" y="9718"/>
                  <a:pt x="12005" y="9550"/>
                </a:cubicBezTo>
                <a:cubicBezTo>
                  <a:pt x="12063" y="9341"/>
                  <a:pt x="11954" y="9162"/>
                  <a:pt x="11807" y="9029"/>
                </a:cubicBezTo>
                <a:cubicBezTo>
                  <a:pt x="11617" y="8858"/>
                  <a:pt x="11360" y="8751"/>
                  <a:pt x="11112" y="8706"/>
                </a:cubicBezTo>
                <a:cubicBezTo>
                  <a:pt x="10743" y="8640"/>
                  <a:pt x="10366" y="8623"/>
                  <a:pt x="9996" y="8632"/>
                </a:cubicBezTo>
                <a:cubicBezTo>
                  <a:pt x="9713" y="8639"/>
                  <a:pt x="9435" y="8611"/>
                  <a:pt x="9153" y="8607"/>
                </a:cubicBezTo>
                <a:cubicBezTo>
                  <a:pt x="8633" y="8600"/>
                  <a:pt x="8105" y="8625"/>
                  <a:pt x="7590" y="8607"/>
                </a:cubicBezTo>
                <a:cubicBezTo>
                  <a:pt x="7313" y="8597"/>
                  <a:pt x="7048" y="8603"/>
                  <a:pt x="6772" y="8607"/>
                </a:cubicBezTo>
                <a:cubicBezTo>
                  <a:pt x="6340" y="8613"/>
                  <a:pt x="5912" y="8628"/>
                  <a:pt x="5482" y="8657"/>
                </a:cubicBezTo>
                <a:cubicBezTo>
                  <a:pt x="4906" y="8696"/>
                  <a:pt x="4311" y="8767"/>
                  <a:pt x="3746" y="8880"/>
                </a:cubicBezTo>
                <a:cubicBezTo>
                  <a:pt x="3335" y="8962"/>
                  <a:pt x="2932" y="9008"/>
                  <a:pt x="2530" y="9128"/>
                </a:cubicBezTo>
                <a:cubicBezTo>
                  <a:pt x="2263" y="9208"/>
                  <a:pt x="1925" y="9275"/>
                  <a:pt x="1687" y="9426"/>
                </a:cubicBezTo>
                <a:cubicBezTo>
                  <a:pt x="1527" y="9527"/>
                  <a:pt x="1179" y="9853"/>
                  <a:pt x="1141" y="10046"/>
                </a:cubicBezTo>
                <a:cubicBezTo>
                  <a:pt x="1112" y="10190"/>
                  <a:pt x="1226" y="10387"/>
                  <a:pt x="1315" y="10492"/>
                </a:cubicBezTo>
                <a:cubicBezTo>
                  <a:pt x="1472" y="10677"/>
                  <a:pt x="1718" y="10687"/>
                  <a:pt x="1935" y="10716"/>
                </a:cubicBezTo>
                <a:cubicBezTo>
                  <a:pt x="2068" y="10733"/>
                  <a:pt x="2198" y="10759"/>
                  <a:pt x="2332" y="10765"/>
                </a:cubicBezTo>
                <a:cubicBezTo>
                  <a:pt x="2501" y="10773"/>
                  <a:pt x="2662" y="10777"/>
                  <a:pt x="2828" y="10790"/>
                </a:cubicBezTo>
                <a:cubicBezTo>
                  <a:pt x="3171" y="10817"/>
                  <a:pt x="3507" y="10801"/>
                  <a:pt x="3845" y="10790"/>
                </a:cubicBezTo>
                <a:cubicBezTo>
                  <a:pt x="3944" y="10787"/>
                  <a:pt x="4043" y="10793"/>
                  <a:pt x="4142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1160" y="3589200"/>
            <a:ext cx="1187640" cy="268560"/>
          </a:xfrm>
          <a:custGeom>
            <a:avLst/>
            <a:gdLst/>
            <a:ahLst/>
            <a:rect l="l" t="t" r="r" b="b"/>
            <a:pathLst>
              <a:path w="3300" h="746">
                <a:moveTo>
                  <a:pt x="2704" y="10468"/>
                </a:moveTo>
                <a:cubicBezTo>
                  <a:pt x="2682" y="10708"/>
                  <a:pt x="2738" y="10715"/>
                  <a:pt x="2530" y="10616"/>
                </a:cubicBezTo>
              </a:path>
              <a:path w="3300" h="746">
                <a:moveTo>
                  <a:pt x="4118" y="9971"/>
                </a:moveTo>
                <a:cubicBezTo>
                  <a:pt x="4123" y="10015"/>
                  <a:pt x="4109" y="10081"/>
                  <a:pt x="4142" y="10046"/>
                </a:cubicBezTo>
              </a:path>
              <a:path w="3300" h="746">
                <a:moveTo>
                  <a:pt x="5829" y="10195"/>
                </a:moveTo>
                <a:cubicBezTo>
                  <a:pt x="5817" y="10316"/>
                  <a:pt x="5855" y="10431"/>
                  <a:pt x="5755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0240" y="3483000"/>
            <a:ext cx="169920" cy="22392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1860" y="9773"/>
                </a:moveTo>
                <a:cubicBezTo>
                  <a:pt x="1761" y="9721"/>
                  <a:pt x="2022" y="9717"/>
                  <a:pt x="2133" y="9699"/>
                </a:cubicBezTo>
                <a:cubicBezTo>
                  <a:pt x="2241" y="9681"/>
                  <a:pt x="2248" y="9673"/>
                  <a:pt x="2307" y="9674"/>
                </a:cubicBezTo>
                <a:cubicBezTo>
                  <a:pt x="2285" y="9847"/>
                  <a:pt x="2248" y="10021"/>
                  <a:pt x="2232" y="10195"/>
                </a:cubicBezTo>
                <a:cubicBezTo>
                  <a:pt x="2232" y="10253"/>
                  <a:pt x="2232" y="10261"/>
                  <a:pt x="2232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70000" y="3375000"/>
            <a:ext cx="204840" cy="277920"/>
          </a:xfrm>
          <a:custGeom>
            <a:avLst/>
            <a:gdLst/>
            <a:ahLst/>
            <a:rect l="l" t="t" r="r" b="b"/>
            <a:pathLst>
              <a:path w="572" h="770">
                <a:moveTo>
                  <a:pt x="3249" y="9500"/>
                </a:moveTo>
                <a:cubicBezTo>
                  <a:pt x="3268" y="9574"/>
                  <a:pt x="3276" y="9581"/>
                  <a:pt x="3274" y="9624"/>
                </a:cubicBezTo>
                <a:cubicBezTo>
                  <a:pt x="3274" y="9568"/>
                  <a:pt x="3243" y="9492"/>
                  <a:pt x="3299" y="9475"/>
                </a:cubicBezTo>
                <a:cubicBezTo>
                  <a:pt x="3373" y="9452"/>
                  <a:pt x="3515" y="9371"/>
                  <a:pt x="3597" y="9376"/>
                </a:cubicBezTo>
                <a:cubicBezTo>
                  <a:pt x="3621" y="9377"/>
                  <a:pt x="3658" y="9401"/>
                  <a:pt x="3696" y="9401"/>
                </a:cubicBezTo>
                <a:cubicBezTo>
                  <a:pt x="3624" y="9413"/>
                  <a:pt x="3513" y="9413"/>
                  <a:pt x="3448" y="9451"/>
                </a:cubicBezTo>
                <a:cubicBezTo>
                  <a:pt x="3316" y="9528"/>
                  <a:pt x="3302" y="9820"/>
                  <a:pt x="3324" y="9947"/>
                </a:cubicBezTo>
                <a:cubicBezTo>
                  <a:pt x="3370" y="10062"/>
                  <a:pt x="3379" y="10097"/>
                  <a:pt x="3448" y="10145"/>
                </a:cubicBezTo>
                <a:cubicBezTo>
                  <a:pt x="3675" y="10092"/>
                  <a:pt x="3799" y="9929"/>
                  <a:pt x="3820" y="9674"/>
                </a:cubicBezTo>
                <a:cubicBezTo>
                  <a:pt x="3833" y="9511"/>
                  <a:pt x="3698" y="9408"/>
                  <a:pt x="3572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4760" y="3348000"/>
            <a:ext cx="455400" cy="260280"/>
          </a:xfrm>
          <a:custGeom>
            <a:avLst/>
            <a:gdLst/>
            <a:ahLst/>
            <a:rect l="l" t="t" r="r" b="b"/>
            <a:pathLst>
              <a:path w="1266" h="720">
                <a:moveTo>
                  <a:pt x="4291" y="9525"/>
                </a:moveTo>
                <a:cubicBezTo>
                  <a:pt x="4291" y="9586"/>
                  <a:pt x="4282" y="9602"/>
                  <a:pt x="4316" y="9624"/>
                </a:cubicBezTo>
                <a:cubicBezTo>
                  <a:pt x="4333" y="9521"/>
                  <a:pt x="4340" y="9463"/>
                  <a:pt x="4440" y="9426"/>
                </a:cubicBezTo>
                <a:cubicBezTo>
                  <a:pt x="4539" y="9401"/>
                  <a:pt x="4572" y="9393"/>
                  <a:pt x="4638" y="9376"/>
                </a:cubicBezTo>
                <a:cubicBezTo>
                  <a:pt x="4756" y="9494"/>
                  <a:pt x="4733" y="9643"/>
                  <a:pt x="4738" y="9798"/>
                </a:cubicBezTo>
                <a:cubicBezTo>
                  <a:pt x="4738" y="9930"/>
                  <a:pt x="4738" y="9947"/>
                  <a:pt x="4738" y="10021"/>
                </a:cubicBezTo>
              </a:path>
              <a:path w="1266" h="720">
                <a:moveTo>
                  <a:pt x="5159" y="9327"/>
                </a:moveTo>
                <a:cubicBezTo>
                  <a:pt x="5110" y="9341"/>
                  <a:pt x="4990" y="9386"/>
                  <a:pt x="4961" y="9426"/>
                </a:cubicBezTo>
                <a:cubicBezTo>
                  <a:pt x="4928" y="9473"/>
                  <a:pt x="4970" y="9612"/>
                  <a:pt x="4986" y="9649"/>
                </a:cubicBezTo>
                <a:cubicBezTo>
                  <a:pt x="5102" y="9560"/>
                  <a:pt x="5260" y="9485"/>
                  <a:pt x="5283" y="9723"/>
                </a:cubicBezTo>
                <a:cubicBezTo>
                  <a:pt x="5296" y="9851"/>
                  <a:pt x="4997" y="10170"/>
                  <a:pt x="4936" y="9971"/>
                </a:cubicBezTo>
                <a:cubicBezTo>
                  <a:pt x="4944" y="9913"/>
                  <a:pt x="4953" y="9856"/>
                  <a:pt x="4961" y="9798"/>
                </a:cubicBezTo>
              </a:path>
              <a:path w="1266" h="720">
                <a:moveTo>
                  <a:pt x="5407" y="9302"/>
                </a:moveTo>
                <a:cubicBezTo>
                  <a:pt x="5510" y="9489"/>
                  <a:pt x="5547" y="9660"/>
                  <a:pt x="5556" y="9872"/>
                </a:cubicBezTo>
                <a:cubicBezTo>
                  <a:pt x="5556" y="9955"/>
                  <a:pt x="5556" y="9971"/>
                  <a:pt x="5556" y="100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3330720"/>
            <a:ext cx="455760" cy="277560"/>
          </a:xfrm>
          <a:custGeom>
            <a:avLst/>
            <a:gdLst/>
            <a:ahLst/>
            <a:rect l="l" t="t" r="r" b="b"/>
            <a:pathLst>
              <a:path w="1266" h="770">
                <a:moveTo>
                  <a:pt x="6623" y="9376"/>
                </a:moveTo>
                <a:cubicBezTo>
                  <a:pt x="6451" y="9433"/>
                  <a:pt x="6365" y="9665"/>
                  <a:pt x="6350" y="9847"/>
                </a:cubicBezTo>
                <a:cubicBezTo>
                  <a:pt x="6358" y="9897"/>
                  <a:pt x="6367" y="9946"/>
                  <a:pt x="6375" y="9996"/>
                </a:cubicBezTo>
                <a:cubicBezTo>
                  <a:pt x="6585" y="10006"/>
                  <a:pt x="6871" y="9987"/>
                  <a:pt x="6871" y="9699"/>
                </a:cubicBezTo>
                <a:cubicBezTo>
                  <a:pt x="6871" y="9468"/>
                  <a:pt x="6743" y="9475"/>
                  <a:pt x="6598" y="9401"/>
                </a:cubicBezTo>
                <a:cubicBezTo>
                  <a:pt x="6606" y="9401"/>
                  <a:pt x="6615" y="9401"/>
                  <a:pt x="6623" y="9401"/>
                </a:cubicBezTo>
              </a:path>
              <a:path w="1266" h="770">
                <a:moveTo>
                  <a:pt x="7094" y="9947"/>
                </a:moveTo>
                <a:cubicBezTo>
                  <a:pt x="7072" y="9990"/>
                  <a:pt x="7068" y="10001"/>
                  <a:pt x="7045" y="10021"/>
                </a:cubicBezTo>
                <a:cubicBezTo>
                  <a:pt x="7130" y="10009"/>
                  <a:pt x="7110" y="10005"/>
                  <a:pt x="7169" y="9922"/>
                </a:cubicBezTo>
                <a:cubicBezTo>
                  <a:pt x="7074" y="9922"/>
                  <a:pt x="7058" y="9905"/>
                  <a:pt x="7045" y="9996"/>
                </a:cubicBezTo>
              </a:path>
              <a:path w="1266" h="770">
                <a:moveTo>
                  <a:pt x="7317" y="9327"/>
                </a:moveTo>
                <a:cubicBezTo>
                  <a:pt x="7328" y="9394"/>
                  <a:pt x="7356" y="9458"/>
                  <a:pt x="7367" y="9525"/>
                </a:cubicBezTo>
                <a:cubicBezTo>
                  <a:pt x="7367" y="9483"/>
                  <a:pt x="7344" y="9400"/>
                  <a:pt x="7392" y="9376"/>
                </a:cubicBezTo>
                <a:cubicBezTo>
                  <a:pt x="7433" y="9355"/>
                  <a:pt x="7494" y="9307"/>
                  <a:pt x="7541" y="9302"/>
                </a:cubicBezTo>
                <a:cubicBezTo>
                  <a:pt x="7569" y="9299"/>
                  <a:pt x="7583" y="9276"/>
                  <a:pt x="7615" y="9252"/>
                </a:cubicBezTo>
                <a:cubicBezTo>
                  <a:pt x="7615" y="9412"/>
                  <a:pt x="7555" y="9563"/>
                  <a:pt x="7541" y="9723"/>
                </a:cubicBezTo>
                <a:cubicBezTo>
                  <a:pt x="7532" y="9826"/>
                  <a:pt x="7549" y="9841"/>
                  <a:pt x="7565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55800" y="4680000"/>
            <a:ext cx="4411440" cy="1133280"/>
          </a:xfrm>
          <a:custGeom>
            <a:avLst/>
            <a:gdLst/>
            <a:ahLst/>
            <a:rect l="l" t="t" r="r" b="b"/>
            <a:pathLst>
              <a:path w="12255" h="3151">
                <a:moveTo>
                  <a:pt x="14536" y="12998"/>
                </a:moveTo>
                <a:cubicBezTo>
                  <a:pt x="14536" y="13006"/>
                  <a:pt x="14536" y="13014"/>
                  <a:pt x="14536" y="13022"/>
                </a:cubicBezTo>
              </a:path>
              <a:path w="12255" h="3151">
                <a:moveTo>
                  <a:pt x="14858" y="15999"/>
                </a:moveTo>
                <a:cubicBezTo>
                  <a:pt x="14872" y="16055"/>
                  <a:pt x="14885" y="16125"/>
                  <a:pt x="14908" y="16148"/>
                </a:cubicBezTo>
              </a:path>
              <a:path w="12255" h="3151">
                <a:moveTo>
                  <a:pt x="2753" y="14883"/>
                </a:moveTo>
                <a:cubicBezTo>
                  <a:pt x="2712" y="15151"/>
                  <a:pt x="2651" y="15425"/>
                  <a:pt x="2654" y="15701"/>
                </a:cubicBezTo>
                <a:cubicBezTo>
                  <a:pt x="2674" y="15863"/>
                  <a:pt x="2662" y="15899"/>
                  <a:pt x="2729" y="15974"/>
                </a:cubicBezTo>
                <a:cubicBezTo>
                  <a:pt x="2937" y="15924"/>
                  <a:pt x="3162" y="15892"/>
                  <a:pt x="3175" y="15627"/>
                </a:cubicBezTo>
                <a:cubicBezTo>
                  <a:pt x="3167" y="15594"/>
                  <a:pt x="3158" y="15561"/>
                  <a:pt x="3150" y="15528"/>
                </a:cubicBezTo>
                <a:cubicBezTo>
                  <a:pt x="2944" y="15562"/>
                  <a:pt x="2940" y="15695"/>
                  <a:pt x="2952" y="15900"/>
                </a:cubicBezTo>
                <a:cubicBezTo>
                  <a:pt x="2976" y="16019"/>
                  <a:pt x="2980" y="16063"/>
                  <a:pt x="3076" y="15974"/>
                </a:cubicBezTo>
              </a:path>
              <a:path w="12255" h="3151">
                <a:moveTo>
                  <a:pt x="3621" y="15627"/>
                </a:moveTo>
                <a:cubicBezTo>
                  <a:pt x="3629" y="15627"/>
                  <a:pt x="3638" y="15627"/>
                  <a:pt x="3646" y="15627"/>
                </a:cubicBezTo>
              </a:path>
              <a:path w="12255" h="3151">
                <a:moveTo>
                  <a:pt x="3845" y="14957"/>
                </a:moveTo>
                <a:cubicBezTo>
                  <a:pt x="3845" y="14808"/>
                  <a:pt x="3852" y="15206"/>
                  <a:pt x="3870" y="15354"/>
                </a:cubicBezTo>
                <a:cubicBezTo>
                  <a:pt x="3892" y="15540"/>
                  <a:pt x="3849" y="15516"/>
                  <a:pt x="3994" y="15528"/>
                </a:cubicBezTo>
              </a:path>
              <a:path w="12255" h="3151">
                <a:moveTo>
                  <a:pt x="4266" y="15677"/>
                </a:moveTo>
                <a:cubicBezTo>
                  <a:pt x="4314" y="15869"/>
                  <a:pt x="4337" y="15889"/>
                  <a:pt x="4242" y="16049"/>
                </a:cubicBezTo>
              </a:path>
              <a:path w="12255" h="3151">
                <a:moveTo>
                  <a:pt x="4837" y="14560"/>
                </a:moveTo>
                <a:cubicBezTo>
                  <a:pt x="4827" y="14816"/>
                  <a:pt x="4749" y="15130"/>
                  <a:pt x="4837" y="15379"/>
                </a:cubicBezTo>
                <a:cubicBezTo>
                  <a:pt x="4899" y="15556"/>
                  <a:pt x="5219" y="15180"/>
                  <a:pt x="5234" y="15106"/>
                </a:cubicBezTo>
                <a:cubicBezTo>
                  <a:pt x="5226" y="15065"/>
                  <a:pt x="5217" y="15023"/>
                  <a:pt x="5209" y="14982"/>
                </a:cubicBezTo>
                <a:cubicBezTo>
                  <a:pt x="5011" y="15022"/>
                  <a:pt x="4938" y="15200"/>
                  <a:pt x="4986" y="15404"/>
                </a:cubicBezTo>
                <a:cubicBezTo>
                  <a:pt x="5064" y="15509"/>
                  <a:pt x="5095" y="15538"/>
                  <a:pt x="5184" y="15429"/>
                </a:cubicBezTo>
              </a:path>
              <a:path w="12255" h="3151">
                <a:moveTo>
                  <a:pt x="5531" y="15379"/>
                </a:moveTo>
                <a:cubicBezTo>
                  <a:pt x="5531" y="15387"/>
                  <a:pt x="5531" y="15396"/>
                  <a:pt x="5531" y="15404"/>
                </a:cubicBezTo>
              </a:path>
              <a:path w="12255" h="3151">
                <a:moveTo>
                  <a:pt x="6028" y="14784"/>
                </a:moveTo>
                <a:cubicBezTo>
                  <a:pt x="5877" y="14858"/>
                  <a:pt x="5823" y="15192"/>
                  <a:pt x="5829" y="15354"/>
                </a:cubicBezTo>
                <a:cubicBezTo>
                  <a:pt x="5846" y="15379"/>
                  <a:pt x="5862" y="15404"/>
                  <a:pt x="5879" y="15429"/>
                </a:cubicBezTo>
                <a:cubicBezTo>
                  <a:pt x="6110" y="15308"/>
                  <a:pt x="6397" y="15133"/>
                  <a:pt x="6102" y="14883"/>
                </a:cubicBezTo>
                <a:cubicBezTo>
                  <a:pt x="6061" y="14866"/>
                  <a:pt x="6019" y="14850"/>
                  <a:pt x="5978" y="14833"/>
                </a:cubicBezTo>
              </a:path>
              <a:path w="12255" h="3151">
                <a:moveTo>
                  <a:pt x="6499" y="14684"/>
                </a:moveTo>
                <a:cubicBezTo>
                  <a:pt x="6499" y="14564"/>
                  <a:pt x="6545" y="14865"/>
                  <a:pt x="6573" y="14982"/>
                </a:cubicBezTo>
                <a:cubicBezTo>
                  <a:pt x="6597" y="15081"/>
                  <a:pt x="6623" y="15331"/>
                  <a:pt x="6623" y="15230"/>
                </a:cubicBezTo>
                <a:cubicBezTo>
                  <a:pt x="6623" y="15222"/>
                  <a:pt x="6623" y="15213"/>
                  <a:pt x="6623" y="15205"/>
                </a:cubicBezTo>
              </a:path>
              <a:path w="12255" h="3151">
                <a:moveTo>
                  <a:pt x="7094" y="15354"/>
                </a:moveTo>
                <a:cubicBezTo>
                  <a:pt x="7116" y="15504"/>
                  <a:pt x="7115" y="15625"/>
                  <a:pt x="7094" y="15776"/>
                </a:cubicBezTo>
              </a:path>
              <a:path w="12255" h="3151">
                <a:moveTo>
                  <a:pt x="7888" y="14709"/>
                </a:moveTo>
                <a:cubicBezTo>
                  <a:pt x="7804" y="14646"/>
                  <a:pt x="7738" y="14695"/>
                  <a:pt x="7689" y="14808"/>
                </a:cubicBezTo>
                <a:cubicBezTo>
                  <a:pt x="7634" y="14935"/>
                  <a:pt x="7605" y="15360"/>
                  <a:pt x="7888" y="15180"/>
                </a:cubicBezTo>
                <a:cubicBezTo>
                  <a:pt x="8100" y="15045"/>
                  <a:pt x="8031" y="14765"/>
                  <a:pt x="7863" y="14660"/>
                </a:cubicBezTo>
                <a:cubicBezTo>
                  <a:pt x="7855" y="14660"/>
                  <a:pt x="7846" y="14660"/>
                  <a:pt x="7838" y="14660"/>
                </a:cubicBezTo>
              </a:path>
              <a:path w="12255" h="3151">
                <a:moveTo>
                  <a:pt x="8310" y="14982"/>
                </a:moveTo>
                <a:cubicBezTo>
                  <a:pt x="8310" y="15007"/>
                  <a:pt x="8310" y="15031"/>
                  <a:pt x="8310" y="15056"/>
                </a:cubicBezTo>
              </a:path>
              <a:path w="12255" h="3151">
                <a:moveTo>
                  <a:pt x="8855" y="14536"/>
                </a:moveTo>
                <a:cubicBezTo>
                  <a:pt x="8855" y="14486"/>
                  <a:pt x="8855" y="14469"/>
                  <a:pt x="8855" y="14436"/>
                </a:cubicBezTo>
                <a:cubicBezTo>
                  <a:pt x="8701" y="14423"/>
                  <a:pt x="8522" y="14568"/>
                  <a:pt x="8607" y="14759"/>
                </a:cubicBezTo>
                <a:cubicBezTo>
                  <a:pt x="8677" y="14914"/>
                  <a:pt x="8865" y="14605"/>
                  <a:pt x="8880" y="14585"/>
                </a:cubicBezTo>
                <a:cubicBezTo>
                  <a:pt x="8880" y="14577"/>
                  <a:pt x="8880" y="14568"/>
                  <a:pt x="8880" y="14560"/>
                </a:cubicBezTo>
                <a:cubicBezTo>
                  <a:pt x="8847" y="14466"/>
                  <a:pt x="8876" y="14684"/>
                  <a:pt x="8880" y="14784"/>
                </a:cubicBezTo>
                <a:cubicBezTo>
                  <a:pt x="8882" y="14829"/>
                  <a:pt x="8819" y="15353"/>
                  <a:pt x="8905" y="15156"/>
                </a:cubicBezTo>
              </a:path>
              <a:path w="12255" h="3151">
                <a:moveTo>
                  <a:pt x="9252" y="15280"/>
                </a:moveTo>
                <a:cubicBezTo>
                  <a:pt x="9227" y="15427"/>
                  <a:pt x="9220" y="15475"/>
                  <a:pt x="9153" y="15553"/>
                </a:cubicBezTo>
              </a:path>
              <a:path w="12255" h="3151">
                <a:moveTo>
                  <a:pt x="9699" y="14486"/>
                </a:moveTo>
                <a:cubicBezTo>
                  <a:pt x="9699" y="14381"/>
                  <a:pt x="9637" y="14630"/>
                  <a:pt x="9624" y="14734"/>
                </a:cubicBezTo>
                <a:cubicBezTo>
                  <a:pt x="9603" y="14894"/>
                  <a:pt x="9622" y="14950"/>
                  <a:pt x="9723" y="15032"/>
                </a:cubicBezTo>
                <a:cubicBezTo>
                  <a:pt x="9820" y="14935"/>
                  <a:pt x="9988" y="14750"/>
                  <a:pt x="9847" y="14610"/>
                </a:cubicBezTo>
                <a:cubicBezTo>
                  <a:pt x="9775" y="14539"/>
                  <a:pt x="9678" y="14531"/>
                  <a:pt x="9599" y="14486"/>
                </a:cubicBezTo>
              </a:path>
              <a:path w="12255" h="3151">
                <a:moveTo>
                  <a:pt x="10120" y="14808"/>
                </a:moveTo>
                <a:cubicBezTo>
                  <a:pt x="10120" y="14836"/>
                  <a:pt x="10122" y="14847"/>
                  <a:pt x="10145" y="14858"/>
                </a:cubicBezTo>
              </a:path>
              <a:path w="12255" h="3151">
                <a:moveTo>
                  <a:pt x="10443" y="14188"/>
                </a:moveTo>
                <a:cubicBezTo>
                  <a:pt x="10426" y="14378"/>
                  <a:pt x="10351" y="14594"/>
                  <a:pt x="10393" y="14784"/>
                </a:cubicBezTo>
                <a:cubicBezTo>
                  <a:pt x="10410" y="14800"/>
                  <a:pt x="10426" y="14817"/>
                  <a:pt x="10443" y="14833"/>
                </a:cubicBezTo>
                <a:cubicBezTo>
                  <a:pt x="10634" y="14738"/>
                  <a:pt x="10645" y="14737"/>
                  <a:pt x="10716" y="14536"/>
                </a:cubicBezTo>
                <a:cubicBezTo>
                  <a:pt x="10664" y="14553"/>
                  <a:pt x="10420" y="14741"/>
                  <a:pt x="10592" y="14784"/>
                </a:cubicBezTo>
                <a:cubicBezTo>
                  <a:pt x="10625" y="14776"/>
                  <a:pt x="10658" y="14767"/>
                  <a:pt x="10691" y="14759"/>
                </a:cubicBezTo>
              </a:path>
              <a:path w="12255" h="3151">
                <a:moveTo>
                  <a:pt x="10964" y="14039"/>
                </a:moveTo>
                <a:cubicBezTo>
                  <a:pt x="10972" y="14255"/>
                  <a:pt x="10999" y="14469"/>
                  <a:pt x="11013" y="14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91000" y="4330800"/>
            <a:ext cx="1760400" cy="1760400"/>
          </a:xfrm>
          <a:custGeom>
            <a:avLst/>
            <a:gdLst/>
            <a:ahLst/>
            <a:rect l="l" t="t" r="r" b="b"/>
            <a:pathLst>
              <a:path w="4887" h="4888">
                <a:moveTo>
                  <a:pt x="13767" y="12303"/>
                </a:moveTo>
                <a:cubicBezTo>
                  <a:pt x="13795" y="12509"/>
                  <a:pt x="13744" y="12619"/>
                  <a:pt x="13692" y="12824"/>
                </a:cubicBezTo>
                <a:cubicBezTo>
                  <a:pt x="13651" y="12988"/>
                  <a:pt x="13581" y="13403"/>
                  <a:pt x="13915" y="13246"/>
                </a:cubicBezTo>
                <a:cubicBezTo>
                  <a:pt x="14111" y="13154"/>
                  <a:pt x="14171" y="13051"/>
                  <a:pt x="14213" y="12874"/>
                </a:cubicBezTo>
                <a:cubicBezTo>
                  <a:pt x="14055" y="12857"/>
                  <a:pt x="13956" y="12965"/>
                  <a:pt x="13990" y="13146"/>
                </a:cubicBezTo>
                <a:cubicBezTo>
                  <a:pt x="14006" y="13171"/>
                  <a:pt x="14023" y="13196"/>
                  <a:pt x="14039" y="13221"/>
                </a:cubicBezTo>
              </a:path>
              <a:path w="4887" h="4888">
                <a:moveTo>
                  <a:pt x="14982" y="12353"/>
                </a:moveTo>
                <a:cubicBezTo>
                  <a:pt x="14857" y="12594"/>
                  <a:pt x="14784" y="12728"/>
                  <a:pt x="14883" y="12973"/>
                </a:cubicBezTo>
                <a:cubicBezTo>
                  <a:pt x="15090" y="12898"/>
                  <a:pt x="15407" y="12746"/>
                  <a:pt x="15180" y="12477"/>
                </a:cubicBezTo>
                <a:cubicBezTo>
                  <a:pt x="15082" y="12418"/>
                  <a:pt x="15067" y="12406"/>
                  <a:pt x="15007" y="12378"/>
                </a:cubicBezTo>
              </a:path>
              <a:path w="4887" h="4888">
                <a:moveTo>
                  <a:pt x="15577" y="12204"/>
                </a:moveTo>
                <a:cubicBezTo>
                  <a:pt x="15601" y="12428"/>
                  <a:pt x="15627" y="12648"/>
                  <a:pt x="15627" y="12874"/>
                </a:cubicBezTo>
              </a:path>
              <a:path w="4887" h="4888">
                <a:moveTo>
                  <a:pt x="13866" y="13543"/>
                </a:moveTo>
                <a:cubicBezTo>
                  <a:pt x="13857" y="13745"/>
                  <a:pt x="13772" y="13992"/>
                  <a:pt x="13841" y="14188"/>
                </a:cubicBezTo>
                <a:cubicBezTo>
                  <a:pt x="13866" y="14221"/>
                  <a:pt x="13890" y="14255"/>
                  <a:pt x="13915" y="14288"/>
                </a:cubicBezTo>
                <a:cubicBezTo>
                  <a:pt x="14053" y="14260"/>
                  <a:pt x="14358" y="14139"/>
                  <a:pt x="14288" y="13915"/>
                </a:cubicBezTo>
                <a:cubicBezTo>
                  <a:pt x="14263" y="13907"/>
                  <a:pt x="14238" y="13899"/>
                  <a:pt x="14213" y="13891"/>
                </a:cubicBezTo>
                <a:cubicBezTo>
                  <a:pt x="14040" y="14051"/>
                  <a:pt x="13992" y="14180"/>
                  <a:pt x="14213" y="14263"/>
                </a:cubicBezTo>
              </a:path>
              <a:path w="4887" h="4888">
                <a:moveTo>
                  <a:pt x="14660" y="13940"/>
                </a:moveTo>
                <a:cubicBezTo>
                  <a:pt x="14634" y="13975"/>
                  <a:pt x="14635" y="13971"/>
                  <a:pt x="14635" y="14015"/>
                </a:cubicBezTo>
                <a:cubicBezTo>
                  <a:pt x="14699" y="13994"/>
                  <a:pt x="14820" y="13890"/>
                  <a:pt x="14660" y="13915"/>
                </a:cubicBezTo>
                <a:cubicBezTo>
                  <a:pt x="14643" y="13923"/>
                  <a:pt x="14627" y="13932"/>
                  <a:pt x="14610" y="13940"/>
                </a:cubicBezTo>
              </a:path>
              <a:path w="4887" h="4888">
                <a:moveTo>
                  <a:pt x="15081" y="13419"/>
                </a:moveTo>
                <a:cubicBezTo>
                  <a:pt x="15081" y="13594"/>
                  <a:pt x="15101" y="13765"/>
                  <a:pt x="15106" y="13940"/>
                </a:cubicBezTo>
                <a:cubicBezTo>
                  <a:pt x="15107" y="13973"/>
                  <a:pt x="15106" y="14023"/>
                  <a:pt x="15106" y="13990"/>
                </a:cubicBezTo>
              </a:path>
              <a:path w="4887" h="4888">
                <a:moveTo>
                  <a:pt x="14263" y="14610"/>
                </a:moveTo>
                <a:cubicBezTo>
                  <a:pt x="14216" y="14798"/>
                  <a:pt x="14064" y="14979"/>
                  <a:pt x="14064" y="15180"/>
                </a:cubicBezTo>
                <a:cubicBezTo>
                  <a:pt x="14081" y="15221"/>
                  <a:pt x="14097" y="15263"/>
                  <a:pt x="14114" y="15304"/>
                </a:cubicBezTo>
                <a:cubicBezTo>
                  <a:pt x="14422" y="15234"/>
                  <a:pt x="14543" y="15073"/>
                  <a:pt x="14486" y="14734"/>
                </a:cubicBezTo>
                <a:cubicBezTo>
                  <a:pt x="14466" y="14614"/>
                  <a:pt x="14407" y="14624"/>
                  <a:pt x="14312" y="14610"/>
                </a:cubicBezTo>
              </a:path>
              <a:path w="4887" h="4888">
                <a:moveTo>
                  <a:pt x="14908" y="15056"/>
                </a:moveTo>
                <a:cubicBezTo>
                  <a:pt x="14902" y="15082"/>
                  <a:pt x="14820" y="15203"/>
                  <a:pt x="14858" y="15156"/>
                </a:cubicBezTo>
                <a:cubicBezTo>
                  <a:pt x="14881" y="15133"/>
                  <a:pt x="14889" y="15129"/>
                  <a:pt x="14883" y="15106"/>
                </a:cubicBezTo>
              </a:path>
              <a:path w="4887" h="4888">
                <a:moveTo>
                  <a:pt x="15255" y="14486"/>
                </a:moveTo>
                <a:cubicBezTo>
                  <a:pt x="15255" y="14629"/>
                  <a:pt x="15238" y="14766"/>
                  <a:pt x="15230" y="14908"/>
                </a:cubicBezTo>
                <a:cubicBezTo>
                  <a:pt x="15230" y="15030"/>
                  <a:pt x="15212" y="15061"/>
                  <a:pt x="15280" y="15106"/>
                </a:cubicBezTo>
                <a:cubicBezTo>
                  <a:pt x="15330" y="15083"/>
                  <a:pt x="15755" y="14917"/>
                  <a:pt x="15652" y="14808"/>
                </a:cubicBezTo>
                <a:cubicBezTo>
                  <a:pt x="15627" y="14800"/>
                  <a:pt x="15602" y="14792"/>
                  <a:pt x="15577" y="14784"/>
                </a:cubicBezTo>
                <a:cubicBezTo>
                  <a:pt x="15563" y="14802"/>
                  <a:pt x="15370" y="15172"/>
                  <a:pt x="15503" y="15106"/>
                </a:cubicBezTo>
                <a:cubicBezTo>
                  <a:pt x="15536" y="15073"/>
                  <a:pt x="15569" y="15040"/>
                  <a:pt x="15602" y="15007"/>
                </a:cubicBezTo>
              </a:path>
              <a:path w="4887" h="4888">
                <a:moveTo>
                  <a:pt x="16049" y="14288"/>
                </a:moveTo>
                <a:cubicBezTo>
                  <a:pt x="16049" y="14495"/>
                  <a:pt x="16049" y="14701"/>
                  <a:pt x="16049" y="14908"/>
                </a:cubicBezTo>
              </a:path>
              <a:path w="4887" h="4888">
                <a:moveTo>
                  <a:pt x="14412" y="15701"/>
                </a:moveTo>
                <a:cubicBezTo>
                  <a:pt x="14249" y="15755"/>
                  <a:pt x="14161" y="16013"/>
                  <a:pt x="14139" y="16173"/>
                </a:cubicBezTo>
                <a:cubicBezTo>
                  <a:pt x="14147" y="16214"/>
                  <a:pt x="14155" y="16256"/>
                  <a:pt x="14163" y="16297"/>
                </a:cubicBezTo>
                <a:cubicBezTo>
                  <a:pt x="14424" y="16325"/>
                  <a:pt x="14537" y="16166"/>
                  <a:pt x="14511" y="15875"/>
                </a:cubicBezTo>
                <a:cubicBezTo>
                  <a:pt x="14511" y="15873"/>
                  <a:pt x="14394" y="15459"/>
                  <a:pt x="14362" y="15652"/>
                </a:cubicBezTo>
              </a:path>
              <a:path w="4887" h="4888">
                <a:moveTo>
                  <a:pt x="15478" y="15701"/>
                </a:moveTo>
                <a:cubicBezTo>
                  <a:pt x="15544" y="15701"/>
                  <a:pt x="15574" y="15613"/>
                  <a:pt x="15528" y="15577"/>
                </a:cubicBezTo>
                <a:cubicBezTo>
                  <a:pt x="15503" y="15569"/>
                  <a:pt x="15478" y="15561"/>
                  <a:pt x="15453" y="15553"/>
                </a:cubicBezTo>
                <a:cubicBezTo>
                  <a:pt x="15302" y="15633"/>
                  <a:pt x="15305" y="15629"/>
                  <a:pt x="15304" y="15801"/>
                </a:cubicBezTo>
                <a:cubicBezTo>
                  <a:pt x="15488" y="15800"/>
                  <a:pt x="15534" y="15788"/>
                  <a:pt x="15627" y="15602"/>
                </a:cubicBezTo>
                <a:cubicBezTo>
                  <a:pt x="15607" y="15777"/>
                  <a:pt x="15582" y="15946"/>
                  <a:pt x="15577" y="16123"/>
                </a:cubicBezTo>
                <a:cubicBezTo>
                  <a:pt x="15577" y="16168"/>
                  <a:pt x="15581" y="16181"/>
                  <a:pt x="15553" y="16197"/>
                </a:cubicBezTo>
              </a:path>
              <a:path w="4887" h="4888">
                <a:moveTo>
                  <a:pt x="12626" y="16917"/>
                </a:moveTo>
                <a:cubicBezTo>
                  <a:pt x="12975" y="16811"/>
                  <a:pt x="13304" y="16735"/>
                  <a:pt x="13667" y="16669"/>
                </a:cubicBezTo>
                <a:cubicBezTo>
                  <a:pt x="14475" y="16521"/>
                  <a:pt x="15285" y="16364"/>
                  <a:pt x="16098" y="16247"/>
                </a:cubicBezTo>
                <a:cubicBezTo>
                  <a:pt x="16508" y="16188"/>
                  <a:pt x="16956" y="16179"/>
                  <a:pt x="17363" y="16098"/>
                </a:cubicBezTo>
                <a:cubicBezTo>
                  <a:pt x="17363" y="16090"/>
                  <a:pt x="17363" y="16081"/>
                  <a:pt x="17363" y="16073"/>
                </a:cubicBezTo>
              </a:path>
              <a:path w="4887" h="4888">
                <a:moveTo>
                  <a:pt x="13543" y="12204"/>
                </a:moveTo>
                <a:cubicBezTo>
                  <a:pt x="13542" y="12222"/>
                  <a:pt x="13532" y="12316"/>
                  <a:pt x="13543" y="12378"/>
                </a:cubicBezTo>
                <a:cubicBezTo>
                  <a:pt x="13564" y="12495"/>
                  <a:pt x="13591" y="12611"/>
                  <a:pt x="13618" y="12725"/>
                </a:cubicBezTo>
                <a:cubicBezTo>
                  <a:pt x="13646" y="12844"/>
                  <a:pt x="13693" y="12952"/>
                  <a:pt x="13717" y="13072"/>
                </a:cubicBezTo>
                <a:cubicBezTo>
                  <a:pt x="13747" y="13222"/>
                  <a:pt x="13745" y="13370"/>
                  <a:pt x="13767" y="13519"/>
                </a:cubicBezTo>
                <a:cubicBezTo>
                  <a:pt x="13784" y="13636"/>
                  <a:pt x="13816" y="13752"/>
                  <a:pt x="13841" y="13866"/>
                </a:cubicBezTo>
                <a:cubicBezTo>
                  <a:pt x="13873" y="14016"/>
                  <a:pt x="13887" y="14163"/>
                  <a:pt x="13915" y="14312"/>
                </a:cubicBezTo>
                <a:cubicBezTo>
                  <a:pt x="13944" y="14463"/>
                  <a:pt x="13981" y="14610"/>
                  <a:pt x="14015" y="14759"/>
                </a:cubicBezTo>
                <a:cubicBezTo>
                  <a:pt x="14125" y="15236"/>
                  <a:pt x="14217" y="15719"/>
                  <a:pt x="14312" y="16197"/>
                </a:cubicBezTo>
                <a:cubicBezTo>
                  <a:pt x="14335" y="16315"/>
                  <a:pt x="14360" y="16427"/>
                  <a:pt x="14387" y="16545"/>
                </a:cubicBezTo>
                <a:cubicBezTo>
                  <a:pt x="14404" y="16620"/>
                  <a:pt x="14401" y="16709"/>
                  <a:pt x="14461" y="16768"/>
                </a:cubicBezTo>
                <a:cubicBezTo>
                  <a:pt x="14461" y="16751"/>
                  <a:pt x="14461" y="16735"/>
                  <a:pt x="14461" y="16718"/>
                </a:cubicBezTo>
              </a:path>
              <a:path w="4887" h="4888">
                <a:moveTo>
                  <a:pt x="14833" y="12030"/>
                </a:moveTo>
                <a:cubicBezTo>
                  <a:pt x="14840" y="12117"/>
                  <a:pt x="14873" y="12191"/>
                  <a:pt x="14883" y="12278"/>
                </a:cubicBezTo>
                <a:cubicBezTo>
                  <a:pt x="14898" y="12408"/>
                  <a:pt x="14906" y="12547"/>
                  <a:pt x="14932" y="12675"/>
                </a:cubicBezTo>
                <a:cubicBezTo>
                  <a:pt x="14952" y="12773"/>
                  <a:pt x="14991" y="12877"/>
                  <a:pt x="15007" y="12973"/>
                </a:cubicBezTo>
                <a:cubicBezTo>
                  <a:pt x="15024" y="13075"/>
                  <a:pt x="15020" y="13192"/>
                  <a:pt x="15032" y="13295"/>
                </a:cubicBezTo>
                <a:cubicBezTo>
                  <a:pt x="15057" y="13498"/>
                  <a:pt x="15028" y="13724"/>
                  <a:pt x="15056" y="13915"/>
                </a:cubicBezTo>
                <a:cubicBezTo>
                  <a:pt x="15064" y="13970"/>
                  <a:pt x="15061" y="13982"/>
                  <a:pt x="15081" y="14015"/>
                </a:cubicBezTo>
              </a:path>
              <a:path w="4887" h="4888">
                <a:moveTo>
                  <a:pt x="13643" y="13915"/>
                </a:moveTo>
                <a:cubicBezTo>
                  <a:pt x="13648" y="13916"/>
                  <a:pt x="13530" y="13929"/>
                  <a:pt x="13791" y="13891"/>
                </a:cubicBezTo>
                <a:cubicBezTo>
                  <a:pt x="14291" y="13819"/>
                  <a:pt x="14785" y="13681"/>
                  <a:pt x="15280" y="13568"/>
                </a:cubicBezTo>
                <a:cubicBezTo>
                  <a:pt x="15456" y="13528"/>
                  <a:pt x="15590" y="13491"/>
                  <a:pt x="15751" y="13444"/>
                </a:cubicBezTo>
              </a:path>
              <a:path w="4887" h="4888">
                <a:moveTo>
                  <a:pt x="13171" y="12774"/>
                </a:moveTo>
                <a:cubicBezTo>
                  <a:pt x="13605" y="12666"/>
                  <a:pt x="14042" y="12526"/>
                  <a:pt x="14486" y="12427"/>
                </a:cubicBezTo>
                <a:cubicBezTo>
                  <a:pt x="14904" y="12334"/>
                  <a:pt x="15323" y="12233"/>
                  <a:pt x="15751" y="12204"/>
                </a:cubicBezTo>
              </a:path>
              <a:path w="4887" h="4888">
                <a:moveTo>
                  <a:pt x="12849" y="13965"/>
                </a:moveTo>
                <a:cubicBezTo>
                  <a:pt x="12864" y="14032"/>
                  <a:pt x="12898" y="14397"/>
                  <a:pt x="12898" y="14213"/>
                </a:cubicBezTo>
              </a:path>
              <a:path w="4887" h="4888">
                <a:moveTo>
                  <a:pt x="12477" y="12700"/>
                </a:moveTo>
                <a:cubicBezTo>
                  <a:pt x="12538" y="12688"/>
                  <a:pt x="12584" y="12675"/>
                  <a:pt x="12650" y="12675"/>
                </a:cubicBezTo>
                <a:cubicBezTo>
                  <a:pt x="12650" y="12837"/>
                  <a:pt x="12630" y="12897"/>
                  <a:pt x="12526" y="13022"/>
                </a:cubicBezTo>
                <a:cubicBezTo>
                  <a:pt x="12630" y="13023"/>
                  <a:pt x="12769" y="12912"/>
                  <a:pt x="12898" y="12874"/>
                </a:cubicBezTo>
                <a:cubicBezTo>
                  <a:pt x="12906" y="12874"/>
                  <a:pt x="12915" y="12874"/>
                  <a:pt x="12923" y="12874"/>
                </a:cubicBezTo>
              </a:path>
              <a:path w="4887" h="4888">
                <a:moveTo>
                  <a:pt x="13246" y="16148"/>
                </a:moveTo>
                <a:cubicBezTo>
                  <a:pt x="13332" y="16076"/>
                  <a:pt x="13443" y="15971"/>
                  <a:pt x="13419" y="16173"/>
                </a:cubicBezTo>
                <a:cubicBezTo>
                  <a:pt x="13411" y="16206"/>
                  <a:pt x="13403" y="16239"/>
                  <a:pt x="13395" y="16272"/>
                </a:cubicBezTo>
                <a:cubicBezTo>
                  <a:pt x="13477" y="16272"/>
                  <a:pt x="13558" y="16229"/>
                  <a:pt x="13568" y="16346"/>
                </a:cubicBezTo>
                <a:cubicBezTo>
                  <a:pt x="13580" y="16489"/>
                  <a:pt x="13455" y="16490"/>
                  <a:pt x="13370" y="16470"/>
                </a:cubicBezTo>
                <a:cubicBezTo>
                  <a:pt x="13342" y="16470"/>
                  <a:pt x="13336" y="16468"/>
                  <a:pt x="13370" y="16446"/>
                </a:cubicBezTo>
              </a:path>
              <a:path w="4887" h="4888">
                <a:moveTo>
                  <a:pt x="12998" y="15280"/>
                </a:moveTo>
                <a:cubicBezTo>
                  <a:pt x="13060" y="15301"/>
                  <a:pt x="13001" y="15380"/>
                  <a:pt x="12973" y="15429"/>
                </a:cubicBezTo>
                <a:cubicBezTo>
                  <a:pt x="13084" y="15410"/>
                  <a:pt x="13164" y="15338"/>
                  <a:pt x="13271" y="15304"/>
                </a:cubicBezTo>
                <a:cubicBezTo>
                  <a:pt x="13279" y="15304"/>
                  <a:pt x="13287" y="15304"/>
                  <a:pt x="13295" y="15304"/>
                </a:cubicBezTo>
              </a:path>
              <a:path w="4887" h="4888">
                <a:moveTo>
                  <a:pt x="13171" y="15007"/>
                </a:moveTo>
                <a:cubicBezTo>
                  <a:pt x="13171" y="15224"/>
                  <a:pt x="13257" y="15860"/>
                  <a:pt x="13196" y="15652"/>
                </a:cubicBezTo>
                <a:cubicBezTo>
                  <a:pt x="13188" y="15619"/>
                  <a:pt x="13179" y="15586"/>
                  <a:pt x="13171" y="15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960" y="4848120"/>
            <a:ext cx="5294160" cy="1287720"/>
          </a:xfrm>
          <a:custGeom>
            <a:avLst/>
            <a:gdLst/>
            <a:ahLst/>
            <a:rect l="l" t="t" r="r" b="b"/>
            <a:pathLst>
              <a:path w="14710" h="3573">
                <a:moveTo>
                  <a:pt x="13667" y="15329"/>
                </a:moveTo>
                <a:cubicBezTo>
                  <a:pt x="14138" y="15111"/>
                  <a:pt x="14616" y="14908"/>
                  <a:pt x="15106" y="14734"/>
                </a:cubicBezTo>
                <a:cubicBezTo>
                  <a:pt x="15638" y="14545"/>
                  <a:pt x="16181" y="14406"/>
                  <a:pt x="16718" y="14238"/>
                </a:cubicBezTo>
                <a:cubicBezTo>
                  <a:pt x="16710" y="14238"/>
                  <a:pt x="16702" y="14238"/>
                  <a:pt x="16694" y="14238"/>
                </a:cubicBezTo>
              </a:path>
              <a:path w="14710" h="3573">
                <a:moveTo>
                  <a:pt x="13221" y="16073"/>
                </a:moveTo>
                <a:cubicBezTo>
                  <a:pt x="13416" y="16055"/>
                  <a:pt x="13623" y="16019"/>
                  <a:pt x="13816" y="15974"/>
                </a:cubicBezTo>
                <a:cubicBezTo>
                  <a:pt x="14589" y="15792"/>
                  <a:pt x="15364" y="15611"/>
                  <a:pt x="16148" y="15478"/>
                </a:cubicBezTo>
                <a:cubicBezTo>
                  <a:pt x="16466" y="15424"/>
                  <a:pt x="16826" y="15497"/>
                  <a:pt x="16421" y="15354"/>
                </a:cubicBezTo>
              </a:path>
              <a:path w="14710" h="3573">
                <a:moveTo>
                  <a:pt x="3349" y="17041"/>
                </a:moveTo>
                <a:cubicBezTo>
                  <a:pt x="3614" y="16877"/>
                  <a:pt x="3802" y="16817"/>
                  <a:pt x="4142" y="16768"/>
                </a:cubicBezTo>
                <a:cubicBezTo>
                  <a:pt x="4694" y="16688"/>
                  <a:pt x="5250" y="16578"/>
                  <a:pt x="5804" y="16520"/>
                </a:cubicBezTo>
                <a:cubicBezTo>
                  <a:pt x="6471" y="16451"/>
                  <a:pt x="7089" y="16281"/>
                  <a:pt x="7739" y="16123"/>
                </a:cubicBezTo>
                <a:cubicBezTo>
                  <a:pt x="8202" y="16010"/>
                  <a:pt x="8666" y="15935"/>
                  <a:pt x="9128" y="15825"/>
                </a:cubicBezTo>
                <a:cubicBezTo>
                  <a:pt x="9638" y="15703"/>
                  <a:pt x="10167" y="15477"/>
                  <a:pt x="10616" y="15205"/>
                </a:cubicBezTo>
                <a:cubicBezTo>
                  <a:pt x="11028" y="14955"/>
                  <a:pt x="11478" y="14718"/>
                  <a:pt x="11757" y="14312"/>
                </a:cubicBezTo>
                <a:cubicBezTo>
                  <a:pt x="11840" y="14191"/>
                  <a:pt x="11990" y="13955"/>
                  <a:pt x="11956" y="13791"/>
                </a:cubicBezTo>
                <a:cubicBezTo>
                  <a:pt x="11923" y="13633"/>
                  <a:pt x="11834" y="13570"/>
                  <a:pt x="11683" y="13519"/>
                </a:cubicBezTo>
                <a:cubicBezTo>
                  <a:pt x="11388" y="13419"/>
                  <a:pt x="11091" y="13495"/>
                  <a:pt x="10790" y="13543"/>
                </a:cubicBezTo>
                <a:cubicBezTo>
                  <a:pt x="10161" y="13644"/>
                  <a:pt x="9546" y="13832"/>
                  <a:pt x="8930" y="13990"/>
                </a:cubicBezTo>
                <a:cubicBezTo>
                  <a:pt x="8580" y="14080"/>
                  <a:pt x="8221" y="14118"/>
                  <a:pt x="7863" y="14163"/>
                </a:cubicBezTo>
                <a:cubicBezTo>
                  <a:pt x="7313" y="14232"/>
                  <a:pt x="6754" y="14363"/>
                  <a:pt x="6201" y="14387"/>
                </a:cubicBezTo>
                <a:cubicBezTo>
                  <a:pt x="5789" y="14405"/>
                  <a:pt x="5374" y="14412"/>
                  <a:pt x="4961" y="14412"/>
                </a:cubicBezTo>
                <a:cubicBezTo>
                  <a:pt x="4695" y="14412"/>
                  <a:pt x="4433" y="14370"/>
                  <a:pt x="4167" y="14387"/>
                </a:cubicBezTo>
                <a:cubicBezTo>
                  <a:pt x="3716" y="14415"/>
                  <a:pt x="3306" y="14604"/>
                  <a:pt x="2902" y="14808"/>
                </a:cubicBezTo>
                <a:cubicBezTo>
                  <a:pt x="2647" y="14937"/>
                  <a:pt x="2109" y="15179"/>
                  <a:pt x="2034" y="15478"/>
                </a:cubicBezTo>
                <a:cubicBezTo>
                  <a:pt x="2003" y="15602"/>
                  <a:pt x="2000" y="15817"/>
                  <a:pt x="2084" y="15925"/>
                </a:cubicBezTo>
                <a:cubicBezTo>
                  <a:pt x="2172" y="16038"/>
                  <a:pt x="2454" y="16146"/>
                  <a:pt x="2580" y="16197"/>
                </a:cubicBezTo>
                <a:cubicBezTo>
                  <a:pt x="2826" y="16296"/>
                  <a:pt x="3062" y="16349"/>
                  <a:pt x="3324" y="16396"/>
                </a:cubicBezTo>
                <a:cubicBezTo>
                  <a:pt x="3503" y="16428"/>
                  <a:pt x="3689" y="16470"/>
                  <a:pt x="3870" y="16470"/>
                </a:cubicBezTo>
                <a:cubicBezTo>
                  <a:pt x="4108" y="16470"/>
                  <a:pt x="4378" y="16450"/>
                  <a:pt x="4614" y="16421"/>
                </a:cubicBezTo>
                <a:cubicBezTo>
                  <a:pt x="4647" y="16417"/>
                  <a:pt x="4655" y="16399"/>
                  <a:pt x="4688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PW 35 even numbere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2:42:53Z</dcterms:created>
  <dc:creator>deanne e mcgrath</dc:creator>
  <dc:description/>
  <dc:language>en-US</dc:language>
  <cp:lastModifiedBy>deanne e mcgrath</cp:lastModifiedBy>
  <dcterms:modified xsi:type="dcterms:W3CDTF">2011-10-11T19:24:02Z</dcterms:modified>
  <cp:revision>3</cp:revision>
  <dc:subject/>
  <dc:title>Slide 1</dc:title>
</cp:coreProperties>
</file>